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F6EA-AE8C-4FD0-BA42-763C4D76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A6C-20E6-405B-8E33-C7B25938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ACC-A97E-4C0C-ABD6-ADC61050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4DD-0609-4FFA-B996-A590ACB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531-3EA6-4FBC-9F8F-1BFD0A38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EE7-E935-418B-AFF9-3C16E9AA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CC5-C1A5-4C00-A389-EABCF297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05E-30EB-4687-A607-C8F2E4A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725-C246-4F97-9FA2-FF7AF67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012-5285-40E1-BCB8-055B85A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7E9-466E-40C1-A359-7548050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CD0-A373-4C68-9E20-363275EF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A16-C343-4BBC-B9BF-2210F22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527-706D-4F37-8D78-128E8F7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BF5-038E-40F2-A43F-1BC68B54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.3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intercepts, properties of slopes and equations of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the transformations, include the type of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0"/>
          <p:cNvGraphicFramePr/>
          <p:nvPr/>
        </p:nvGraphicFramePr>
        <p:xfrm>
          <a:off x="1440000" y="3838680"/>
          <a:ext cx="24127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3838680"/>
                    <a:ext cx="24127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26"/>
          <p:cNvSpPr/>
          <p:nvPr/>
        </p:nvSpPr>
        <p:spPr>
          <a:xfrm>
            <a:off x="4509360" y="393552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Quadratic, righ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4"/>
          <p:cNvGraphicFramePr/>
          <p:nvPr/>
        </p:nvGraphicFramePr>
        <p:xfrm>
          <a:off x="1425600" y="4545000"/>
          <a:ext cx="24415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4545000"/>
                    <a:ext cx="2441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5"/>
          <p:cNvGraphicFramePr/>
          <p:nvPr/>
        </p:nvGraphicFramePr>
        <p:xfrm>
          <a:off x="1488960" y="5194440"/>
          <a:ext cx="2981520" cy="6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8960" y="5194440"/>
                    <a:ext cx="29815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6"/>
          <p:cNvSpPr/>
          <p:nvPr/>
        </p:nvSpPr>
        <p:spPr>
          <a:xfrm>
            <a:off x="4651200" y="462744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Abs Value, reflect over x-axis, up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4873320" y="5334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Cube root, left 1, dow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42800" y="182232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2"/>
          <p:cNvGraphicFramePr/>
          <p:nvPr/>
        </p:nvGraphicFramePr>
        <p:xfrm>
          <a:off x="2967120" y="1782720"/>
          <a:ext cx="2044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1782720"/>
                    <a:ext cx="2044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s a linear equation not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695600" y="128412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’s a vertic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39"/>
          <p:cNvGraphicFramePr/>
          <p:nvPr/>
        </p:nvGraphicFramePr>
        <p:xfrm>
          <a:off x="5599080" y="1293840"/>
          <a:ext cx="7668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9080" y="1293840"/>
                    <a:ext cx="7668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4"/>
          <p:cNvSpPr/>
          <p:nvPr/>
        </p:nvSpPr>
        <p:spPr>
          <a:xfrm>
            <a:off x="839880" y="2567160"/>
            <a:ext cx="59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m=0, then it’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309680" y="310356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: 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336680" y="366876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821040" y="32796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76280" y="43005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533680" y="4314960"/>
            <a:ext cx="28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y or f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95360" y="49370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ercep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552760" y="49514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244440" y="276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6"/>
          <p:cNvGraphicFramePr/>
          <p:nvPr/>
        </p:nvGraphicFramePr>
        <p:xfrm>
          <a:off x="836640" y="846000"/>
          <a:ext cx="17604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846000"/>
                    <a:ext cx="17604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46" descr="20x20grid"/>
          <p:cNvPicPr/>
          <p:nvPr/>
        </p:nvPicPr>
        <p:blipFill>
          <a:blip r:embed="rId3"/>
          <a:stretch/>
        </p:blipFill>
        <p:spPr>
          <a:xfrm>
            <a:off x="5675400" y="330372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4686480" y="56340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pick your meth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62080" y="149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74680" y="1933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5"/>
          <p:cNvGrpSpPr/>
          <p:nvPr/>
        </p:nvGrpSpPr>
        <p:grpSpPr>
          <a:xfrm>
            <a:off x="282600" y="2462040"/>
            <a:ext cx="928800" cy="1625760"/>
            <a:chOff x="282600" y="2462040"/>
            <a:chExt cx="928800" cy="1625760"/>
          </a:xfrm>
        </p:grpSpPr>
        <p:sp>
          <p:nvSpPr>
            <p:cNvPr id="87" name="Rectangle 14"/>
            <p:cNvSpPr/>
            <p:nvPr/>
          </p:nvSpPr>
          <p:spPr>
            <a:xfrm>
              <a:off x="360360" y="24620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>
              <a:off x="739800" y="251460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282600" y="282420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797040" y="24685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14"/>
          <p:cNvSpPr/>
          <p:nvPr/>
        </p:nvSpPr>
        <p:spPr>
          <a:xfrm>
            <a:off x="210960" y="4816440"/>
            <a:ext cx="13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k #s for x and 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432160" y="1495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417760" y="1990800"/>
            <a:ext cx="16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the x and y-ints and connec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616280" y="14860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640400" y="192708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ve for y, then plot y-int an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9"/>
          <p:cNvSpPr/>
          <p:nvPr/>
        </p:nvSpPr>
        <p:spPr>
          <a:xfrm>
            <a:off x="291960" y="37620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lope of a 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3249720" y="24912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3147840" y="7128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2"/>
          <p:cNvSpPr/>
          <p:nvPr/>
        </p:nvSpPr>
        <p:spPr>
          <a:xfrm>
            <a:off x="3286080" y="73656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3"/>
              <p:cNvSpPr txBox="1"/>
              <p:nvPr/>
            </p:nvSpPr>
            <p:spPr>
              <a:xfrm>
                <a:off x="4392720" y="279360"/>
                <a:ext cx="18828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74"/>
          <p:cNvSpPr/>
          <p:nvPr/>
        </p:nvSpPr>
        <p:spPr>
          <a:xfrm>
            <a:off x="2911320" y="1611360"/>
            <a:ext cx="467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ypes of Slo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5"/>
          <p:cNvSpPr/>
          <p:nvPr/>
        </p:nvSpPr>
        <p:spPr>
          <a:xfrm>
            <a:off x="385920" y="2284560"/>
            <a:ext cx="164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6"/>
          <p:cNvSpPr/>
          <p:nvPr/>
        </p:nvSpPr>
        <p:spPr>
          <a:xfrm flipV="1">
            <a:off x="738360" y="2811600"/>
            <a:ext cx="637920" cy="9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7"/>
          <p:cNvSpPr/>
          <p:nvPr/>
        </p:nvSpPr>
        <p:spPr>
          <a:xfrm>
            <a:off x="2251080" y="2290680"/>
            <a:ext cx="1641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8"/>
          <p:cNvSpPr/>
          <p:nvPr/>
        </p:nvSpPr>
        <p:spPr>
          <a:xfrm flipH="1" flipV="1">
            <a:off x="2719080" y="2921040"/>
            <a:ext cx="755640" cy="10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9"/>
          <p:cNvSpPr/>
          <p:nvPr/>
        </p:nvSpPr>
        <p:spPr>
          <a:xfrm>
            <a:off x="4406760" y="2298600"/>
            <a:ext cx="1641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0"/>
          <p:cNvSpPr/>
          <p:nvPr/>
        </p:nvSpPr>
        <p:spPr>
          <a:xfrm flipH="1">
            <a:off x="4308120" y="3278160"/>
            <a:ext cx="12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6473880" y="2333520"/>
            <a:ext cx="187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defi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2"/>
          <p:cNvSpPr/>
          <p:nvPr/>
        </p:nvSpPr>
        <p:spPr>
          <a:xfrm>
            <a:off x="7348680" y="2894040"/>
            <a:ext cx="12600" cy="85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268200" y="39132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lope of the line passing through the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750960" y="457524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(-3, 4) and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925560" y="52484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6"/>
          <p:cNvSpPr/>
          <p:nvPr/>
        </p:nvSpPr>
        <p:spPr>
          <a:xfrm>
            <a:off x="851040" y="57387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8"/>
          <p:cNvSpPr/>
          <p:nvPr/>
        </p:nvSpPr>
        <p:spPr>
          <a:xfrm>
            <a:off x="2070000" y="54864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9"/>
          <p:cNvSpPr/>
          <p:nvPr/>
        </p:nvSpPr>
        <p:spPr>
          <a:xfrm>
            <a:off x="2505240" y="5194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0"/>
          <p:cNvSpPr/>
          <p:nvPr/>
        </p:nvSpPr>
        <p:spPr>
          <a:xfrm>
            <a:off x="2408400" y="573084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2435400" y="577836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2"/>
          <p:cNvSpPr/>
          <p:nvPr/>
        </p:nvSpPr>
        <p:spPr>
          <a:xfrm>
            <a:off x="2349360" y="5199120"/>
            <a:ext cx="708120" cy="10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1225440" y="5278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4"/>
          <p:cNvSpPr/>
          <p:nvPr/>
        </p:nvSpPr>
        <p:spPr>
          <a:xfrm>
            <a:off x="1522440" y="5267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5"/>
          <p:cNvSpPr/>
          <p:nvPr/>
        </p:nvSpPr>
        <p:spPr>
          <a:xfrm>
            <a:off x="888840" y="57913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6"/>
          <p:cNvSpPr/>
          <p:nvPr/>
        </p:nvSpPr>
        <p:spPr>
          <a:xfrm>
            <a:off x="1189080" y="57801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1405080" y="57531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587840" y="460692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(-2, 1) and (-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9"/>
          <p:cNvSpPr/>
          <p:nvPr/>
        </p:nvSpPr>
        <p:spPr>
          <a:xfrm>
            <a:off x="4762440" y="5280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0"/>
          <p:cNvSpPr/>
          <p:nvPr/>
        </p:nvSpPr>
        <p:spPr>
          <a:xfrm>
            <a:off x="4687920" y="577044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1"/>
          <p:cNvSpPr/>
          <p:nvPr/>
        </p:nvSpPr>
        <p:spPr>
          <a:xfrm>
            <a:off x="5907240" y="5518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2"/>
          <p:cNvSpPr/>
          <p:nvPr/>
        </p:nvSpPr>
        <p:spPr>
          <a:xfrm>
            <a:off x="6342120" y="522612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3"/>
          <p:cNvSpPr/>
          <p:nvPr/>
        </p:nvSpPr>
        <p:spPr>
          <a:xfrm>
            <a:off x="6245280" y="576252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4"/>
          <p:cNvSpPr/>
          <p:nvPr/>
        </p:nvSpPr>
        <p:spPr>
          <a:xfrm>
            <a:off x="6272280" y="581040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5"/>
          <p:cNvSpPr/>
          <p:nvPr/>
        </p:nvSpPr>
        <p:spPr>
          <a:xfrm>
            <a:off x="6858000" y="5472000"/>
            <a:ext cx="167652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6"/>
          <p:cNvSpPr/>
          <p:nvPr/>
        </p:nvSpPr>
        <p:spPr>
          <a:xfrm>
            <a:off x="5062680" y="5310360"/>
            <a:ext cx="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7"/>
          <p:cNvSpPr/>
          <p:nvPr/>
        </p:nvSpPr>
        <p:spPr>
          <a:xfrm>
            <a:off x="5359320" y="52992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8"/>
          <p:cNvSpPr/>
          <p:nvPr/>
        </p:nvSpPr>
        <p:spPr>
          <a:xfrm>
            <a:off x="4726080" y="582300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9"/>
          <p:cNvSpPr/>
          <p:nvPr/>
        </p:nvSpPr>
        <p:spPr>
          <a:xfrm>
            <a:off x="5025960" y="58118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0"/>
          <p:cNvSpPr/>
          <p:nvPr/>
        </p:nvSpPr>
        <p:spPr>
          <a:xfrm>
            <a:off x="5241960" y="578484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6865920" y="552276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498920" y="82872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8920" y="82872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299120" y="1668600"/>
          <a:ext cx="56808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1668600"/>
                    <a:ext cx="5680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4938840" y="1401840"/>
          <a:ext cx="3394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8840" y="140184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5302080" y="1655640"/>
          <a:ext cx="284400" cy="3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02080" y="165564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5659560" y="1639800"/>
          <a:ext cx="453960" cy="3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9560" y="1639800"/>
                    <a:ext cx="453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0"/>
          <p:cNvSpPr/>
          <p:nvPr/>
        </p:nvSpPr>
        <p:spPr>
          <a:xfrm>
            <a:off x="679680" y="866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slope ½ and y-i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39000" y="25653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lope 2/3 and goes through (-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1719360" y="3119400"/>
          <a:ext cx="1504800" cy="45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9360" y="3119400"/>
                    <a:ext cx="1504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3"/>
          <p:cNvGraphicFramePr/>
          <p:nvPr/>
        </p:nvGraphicFramePr>
        <p:xfrm>
          <a:off x="1504800" y="3875040"/>
          <a:ext cx="48276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04800" y="38750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4"/>
          <p:cNvGraphicFramePr/>
          <p:nvPr/>
        </p:nvGraphicFramePr>
        <p:xfrm>
          <a:off x="2060640" y="3659040"/>
          <a:ext cx="33984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60640" y="3659040"/>
                    <a:ext cx="3398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14"/>
          <p:cNvSpPr/>
          <p:nvPr/>
        </p:nvSpPr>
        <p:spPr>
          <a:xfrm>
            <a:off x="6138720" y="26748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6"/>
          <p:cNvGraphicFramePr/>
          <p:nvPr/>
        </p:nvGraphicFramePr>
        <p:xfrm>
          <a:off x="2325600" y="3794040"/>
          <a:ext cx="709560" cy="56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25600" y="3794040"/>
                    <a:ext cx="7095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7"/>
          <p:cNvGraphicFramePr/>
          <p:nvPr/>
        </p:nvGraphicFramePr>
        <p:xfrm>
          <a:off x="3084480" y="3865680"/>
          <a:ext cx="482760" cy="39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84480" y="386568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8"/>
          <p:cNvGraphicFramePr/>
          <p:nvPr/>
        </p:nvGraphicFramePr>
        <p:xfrm>
          <a:off x="1468440" y="4632480"/>
          <a:ext cx="48276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68440" y="463248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9"/>
          <p:cNvGraphicFramePr/>
          <p:nvPr/>
        </p:nvGraphicFramePr>
        <p:xfrm>
          <a:off x="2027160" y="4637160"/>
          <a:ext cx="45396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27160" y="4637160"/>
                    <a:ext cx="453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0"/>
          <p:cNvGraphicFramePr/>
          <p:nvPr/>
        </p:nvGraphicFramePr>
        <p:xfrm>
          <a:off x="2496960" y="4621320"/>
          <a:ext cx="482760" cy="396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96960" y="4621320"/>
                    <a:ext cx="482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1"/>
          <p:cNvGraphicFramePr/>
          <p:nvPr/>
        </p:nvGraphicFramePr>
        <p:xfrm>
          <a:off x="1386000" y="5189400"/>
          <a:ext cx="538200" cy="397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86000" y="5189400"/>
                    <a:ext cx="5382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2"/>
          <p:cNvGraphicFramePr/>
          <p:nvPr/>
        </p:nvGraphicFramePr>
        <p:xfrm>
          <a:off x="2049480" y="5178600"/>
          <a:ext cx="255600" cy="396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1" name="Object 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9480" y="5178600"/>
                    <a:ext cx="25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23"/>
          <p:cNvSpPr/>
          <p:nvPr/>
        </p:nvSpPr>
        <p:spPr>
          <a:xfrm>
            <a:off x="4262400" y="1371600"/>
            <a:ext cx="186552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4"/>
          <p:cNvGraphicFramePr/>
          <p:nvPr/>
        </p:nvGraphicFramePr>
        <p:xfrm>
          <a:off x="4519440" y="4092480"/>
          <a:ext cx="568440" cy="37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4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519440" y="4092480"/>
                    <a:ext cx="568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5"/>
          <p:cNvGraphicFramePr/>
          <p:nvPr/>
        </p:nvGraphicFramePr>
        <p:xfrm>
          <a:off x="5159520" y="3825720"/>
          <a:ext cx="33948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6" name="Object 2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59520" y="3825720"/>
                    <a:ext cx="339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6"/>
          <p:cNvGraphicFramePr/>
          <p:nvPr/>
        </p:nvGraphicFramePr>
        <p:xfrm>
          <a:off x="5522760" y="4079880"/>
          <a:ext cx="284400" cy="312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8" name="Object 2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522760" y="40798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7"/>
          <p:cNvGraphicFramePr/>
          <p:nvPr/>
        </p:nvGraphicFramePr>
        <p:xfrm>
          <a:off x="5880240" y="4049640"/>
          <a:ext cx="45396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0" name="Object 2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80240" y="4049640"/>
                    <a:ext cx="4539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8"/>
          <p:cNvSpPr/>
          <p:nvPr/>
        </p:nvSpPr>
        <p:spPr>
          <a:xfrm>
            <a:off x="4483080" y="37958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243000" y="32076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oes through (-2, 1) and (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721480" y="430200"/>
            <a:ext cx="34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ed to find m first, then 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50960" y="1025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76440" y="151596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895400" y="12636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330280" y="97164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2233440" y="1508040"/>
            <a:ext cx="52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354400" y="155592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050840" y="10555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347840" y="10447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14240" y="1568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014480" y="15573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230480" y="15303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2814480" y="12952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56120" y="1312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0"/>
          <p:cNvGraphicFramePr/>
          <p:nvPr/>
        </p:nvGraphicFramePr>
        <p:xfrm>
          <a:off x="4019400" y="995400"/>
          <a:ext cx="15051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995400"/>
                    <a:ext cx="1505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1"/>
          <p:cNvGraphicFramePr/>
          <p:nvPr/>
        </p:nvGraphicFramePr>
        <p:xfrm>
          <a:off x="3844800" y="1563840"/>
          <a:ext cx="4827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4800" y="1563840"/>
                    <a:ext cx="482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2"/>
          <p:cNvGraphicFramePr/>
          <p:nvPr/>
        </p:nvGraphicFramePr>
        <p:xfrm>
          <a:off x="4441680" y="1587600"/>
          <a:ext cx="2556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1587600"/>
                    <a:ext cx="2556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4665600" y="1482840"/>
          <a:ext cx="709560" cy="56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5600" y="1482840"/>
                    <a:ext cx="709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4"/>
          <p:cNvGraphicFramePr/>
          <p:nvPr/>
        </p:nvGraphicFramePr>
        <p:xfrm>
          <a:off x="5424480" y="1554120"/>
          <a:ext cx="482760" cy="39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4480" y="155412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5"/>
          <p:cNvGraphicFramePr/>
          <p:nvPr/>
        </p:nvGraphicFramePr>
        <p:xfrm>
          <a:off x="3822840" y="2038320"/>
          <a:ext cx="48240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22840" y="2038320"/>
                    <a:ext cx="482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6"/>
          <p:cNvGraphicFramePr/>
          <p:nvPr/>
        </p:nvGraphicFramePr>
        <p:xfrm>
          <a:off x="4381560" y="2028960"/>
          <a:ext cx="453960" cy="39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81560" y="2028960"/>
                    <a:ext cx="453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7"/>
          <p:cNvGraphicFramePr/>
          <p:nvPr/>
        </p:nvGraphicFramePr>
        <p:xfrm>
          <a:off x="4851360" y="2027160"/>
          <a:ext cx="48276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1360" y="2027160"/>
                    <a:ext cx="4827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3753000" y="2554200"/>
          <a:ext cx="537840" cy="39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53000" y="2554200"/>
                    <a:ext cx="5378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29"/>
          <p:cNvGraphicFramePr/>
          <p:nvPr/>
        </p:nvGraphicFramePr>
        <p:xfrm>
          <a:off x="4402080" y="2543040"/>
          <a:ext cx="284400" cy="397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02080" y="2543040"/>
                    <a:ext cx="2844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4"/>
          <p:cNvSpPr/>
          <p:nvPr/>
        </p:nvSpPr>
        <p:spPr>
          <a:xfrm>
            <a:off x="6491160" y="1025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either poi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31"/>
          <p:cNvGraphicFramePr/>
          <p:nvPr/>
        </p:nvGraphicFramePr>
        <p:xfrm>
          <a:off x="6308640" y="2249640"/>
          <a:ext cx="568440" cy="369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9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8640" y="2249640"/>
                    <a:ext cx="5684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2"/>
          <p:cNvGraphicFramePr/>
          <p:nvPr/>
        </p:nvGraphicFramePr>
        <p:xfrm>
          <a:off x="6991200" y="2222640"/>
          <a:ext cx="254160" cy="39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1" name="Object 3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91200" y="2222640"/>
                    <a:ext cx="2541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3"/>
          <p:cNvGraphicFramePr/>
          <p:nvPr/>
        </p:nvGraphicFramePr>
        <p:xfrm>
          <a:off x="7311960" y="2236680"/>
          <a:ext cx="284400" cy="312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3" name="Object 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11960" y="2236680"/>
                    <a:ext cx="284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4"/>
          <p:cNvGraphicFramePr/>
          <p:nvPr/>
        </p:nvGraphicFramePr>
        <p:xfrm>
          <a:off x="7628040" y="2206800"/>
          <a:ext cx="453960" cy="39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5" name="Object 3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8040" y="2206800"/>
                    <a:ext cx="4539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5"/>
          <p:cNvSpPr/>
          <p:nvPr/>
        </p:nvSpPr>
        <p:spPr>
          <a:xfrm>
            <a:off x="6272280" y="1952640"/>
            <a:ext cx="186516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244440" y="33289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                  in the form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7"/>
          <p:cNvGraphicFramePr/>
          <p:nvPr/>
        </p:nvGraphicFramePr>
        <p:xfrm>
          <a:off x="3968640" y="3127320"/>
          <a:ext cx="1533600" cy="879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9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8640" y="3127320"/>
                    <a:ext cx="1533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8"/>
          <p:cNvGraphicFramePr/>
          <p:nvPr/>
        </p:nvGraphicFramePr>
        <p:xfrm>
          <a:off x="7385040" y="3327480"/>
          <a:ext cx="1758960" cy="453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1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385040" y="3327480"/>
                    <a:ext cx="1758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14"/>
          <p:cNvSpPr/>
          <p:nvPr/>
        </p:nvSpPr>
        <p:spPr>
          <a:xfrm>
            <a:off x="7277040" y="385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40"/>
          <p:cNvGraphicFramePr/>
          <p:nvPr/>
        </p:nvGraphicFramePr>
        <p:xfrm>
          <a:off x="3859200" y="4006800"/>
          <a:ext cx="1789200" cy="87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4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59200" y="4006800"/>
                    <a:ext cx="1789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7105680" y="42498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fractions and A must be 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42"/>
          <p:cNvGraphicFramePr/>
          <p:nvPr/>
        </p:nvGraphicFramePr>
        <p:xfrm>
          <a:off x="3794040" y="5151600"/>
          <a:ext cx="1817640" cy="453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7" name="Object 4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94040" y="5151600"/>
                    <a:ext cx="1817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43"/>
          <p:cNvSpPr/>
          <p:nvPr/>
        </p:nvSpPr>
        <p:spPr>
          <a:xfrm>
            <a:off x="3762360" y="4970520"/>
            <a:ext cx="1865160" cy="73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22"/>
          <p:cNvSpPr/>
          <p:nvPr/>
        </p:nvSpPr>
        <p:spPr>
          <a:xfrm>
            <a:off x="192240" y="1797120"/>
            <a:ext cx="334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g. 48-49, #1-4, 6-54 (mult. of 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equation of the line through (-5, -2) and (5, -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3"/>
          <p:cNvSpPr/>
          <p:nvPr/>
        </p:nvSpPr>
        <p:spPr>
          <a:xfrm>
            <a:off x="0" y="984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asiest (or hardest) part of this lesson is ___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52"/>
          <p:cNvSpPr/>
          <p:nvPr/>
        </p:nvSpPr>
        <p:spPr>
          <a:xfrm>
            <a:off x="210960" y="369720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tomorrow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toontest"/>
          <p:cNvPicPr/>
          <p:nvPr/>
        </p:nvPicPr>
        <p:blipFill>
          <a:blip r:embed="rId1"/>
          <a:stretch/>
        </p:blipFill>
        <p:spPr>
          <a:xfrm>
            <a:off x="3591000" y="1790640"/>
            <a:ext cx="5553000" cy="4727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4T18:24:29Z</dcterms:modified>
  <cp:revision>327</cp:revision>
  <dc:subject/>
  <dc:title>1.6 Solving Absolute Value Equations and  Inequalities</dc:title>
</cp:coreProperties>
</file>