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media/image28.png" ContentType="image/png"/>
  <Override PartName="/ppt/media/image1.wmf" ContentType="image/x-wmf"/>
  <Override PartName="/ppt/media/image31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2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png" ContentType="image/png"/>
  <Override PartName="/ppt/media/image14.png" ContentType="image/png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48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1A34-F026-4044-9559-ED71611F5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C205-11F7-4D15-9A21-6C8D58F27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4CCA-0F3F-48A4-ABD9-B55CA6ED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449F-FC7D-48D4-8525-4167413C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4EF-8165-40EB-8D23-9F8A94BB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6AC6-58C3-4E6A-9675-2C8DF64D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38D4-C7F0-445B-A7E2-9129E944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78F0-8140-42FD-A3A1-73850701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5A8F-928F-44C9-A3FA-EDC89A6D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4126-3288-46EC-B666-40D7DB1E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6F7F-15C6-4A2A-B975-00B97335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AC8A-6DC5-4C5A-B360-652C0399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A204-1F12-4B82-AD16-06A80DB1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56E1-B9AD-4710-962F-3BE6CDDF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D368-3E60-4529-91EE-6196C8320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.wmf"/><Relationship Id="rId3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1.wm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image" Target="../media/image2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0.wm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4.wmf"/><Relationship Id="rId3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9.wmf"/><Relationship Id="rId2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43668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3.3 Cost, Profit and Revenue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370"/>
          <p:cNvSpPr/>
          <p:nvPr/>
        </p:nvSpPr>
        <p:spPr>
          <a:xfrm>
            <a:off x="270000" y="183816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see how linear and quadratic functions are useful in the business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07880" y="270972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8"/>
          <p:cNvSpPr/>
          <p:nvPr/>
        </p:nvSpPr>
        <p:spPr>
          <a:xfrm>
            <a:off x="374760" y="3359160"/>
            <a:ext cx="847728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what you know about these ter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st, demand, revenue, and prof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622"/>
          <p:cNvSpPr/>
          <p:nvPr/>
        </p:nvSpPr>
        <p:spPr>
          <a:xfrm>
            <a:off x="206280" y="1984320"/>
            <a:ext cx="33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42"/>
          <p:cNvSpPr/>
          <p:nvPr/>
        </p:nvSpPr>
        <p:spPr>
          <a:xfrm>
            <a:off x="263520" y="185760"/>
            <a:ext cx="78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43"/>
          <p:cNvSpPr/>
          <p:nvPr/>
        </p:nvSpPr>
        <p:spPr>
          <a:xfrm>
            <a:off x="0" y="863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95"/>
          <p:cNvSpPr/>
          <p:nvPr/>
        </p:nvSpPr>
        <p:spPr>
          <a:xfrm>
            <a:off x="1920960" y="84132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 (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6"/>
          <p:cNvSpPr/>
          <p:nvPr/>
        </p:nvSpPr>
        <p:spPr>
          <a:xfrm>
            <a:off x="4375080" y="863640"/>
            <a:ext cx="42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venue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9"/>
          <p:cNvSpPr/>
          <p:nvPr/>
        </p:nvSpPr>
        <p:spPr>
          <a:xfrm>
            <a:off x="1496880" y="23162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&gt;C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0"/>
          <p:cNvSpPr/>
          <p:nvPr/>
        </p:nvSpPr>
        <p:spPr>
          <a:xfrm>
            <a:off x="571680" y="18590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  C=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01"/>
          <p:cNvSpPr/>
          <p:nvPr/>
        </p:nvSpPr>
        <p:spPr>
          <a:xfrm>
            <a:off x="2684520" y="1847880"/>
            <a:ext cx="42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eak ev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0"/>
          <p:cNvSpPr/>
          <p:nvPr/>
        </p:nvSpPr>
        <p:spPr>
          <a:xfrm>
            <a:off x="2649600" y="2322360"/>
            <a:ext cx="42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a prof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1"/>
          <p:cNvSpPr/>
          <p:nvPr/>
        </p:nvSpPr>
        <p:spPr>
          <a:xfrm>
            <a:off x="1528920" y="28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&lt;C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2"/>
          <p:cNvSpPr/>
          <p:nvPr/>
        </p:nvSpPr>
        <p:spPr>
          <a:xfrm>
            <a:off x="2722680" y="2838600"/>
            <a:ext cx="42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 of mon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3"/>
          <p:cNvSpPr/>
          <p:nvPr/>
        </p:nvSpPr>
        <p:spPr>
          <a:xfrm>
            <a:off x="592200" y="3573360"/>
            <a:ext cx="42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types of co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4"/>
          <p:cNvSpPr/>
          <p:nvPr/>
        </p:nvSpPr>
        <p:spPr>
          <a:xfrm>
            <a:off x="1049400" y="4098960"/>
            <a:ext cx="14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xed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5"/>
          <p:cNvSpPr/>
          <p:nvPr/>
        </p:nvSpPr>
        <p:spPr>
          <a:xfrm>
            <a:off x="2473200" y="4084560"/>
            <a:ext cx="42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nt, insuranc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6"/>
          <p:cNvSpPr/>
          <p:nvPr/>
        </p:nvSpPr>
        <p:spPr>
          <a:xfrm>
            <a:off x="1079640" y="4681440"/>
            <a:ext cx="22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37"/>
          <p:cNvSpPr/>
          <p:nvPr/>
        </p:nvSpPr>
        <p:spPr>
          <a:xfrm>
            <a:off x="2935440" y="4627440"/>
            <a:ext cx="48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erials, wage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8"/>
          <p:cNvSpPr/>
          <p:nvPr/>
        </p:nvSpPr>
        <p:spPr>
          <a:xfrm>
            <a:off x="3594240" y="5138640"/>
            <a:ext cx="53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nt on # of items made or hours work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4"/>
          <p:cNvSpPr/>
          <p:nvPr/>
        </p:nvSpPr>
        <p:spPr>
          <a:xfrm>
            <a:off x="244440" y="276120"/>
            <a:ext cx="24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st Fun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4"/>
          <p:cNvSpPr/>
          <p:nvPr/>
        </p:nvSpPr>
        <p:spPr>
          <a:xfrm>
            <a:off x="2668680" y="217440"/>
            <a:ext cx="56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= fixed costs + variabl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176"/>
          <p:cNvGraphicFramePr/>
          <p:nvPr/>
        </p:nvGraphicFramePr>
        <p:xfrm>
          <a:off x="2479680" y="709560"/>
          <a:ext cx="928800" cy="4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7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9680" y="709560"/>
                    <a:ext cx="92880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177"/>
          <p:cNvGraphicFramePr/>
          <p:nvPr/>
        </p:nvGraphicFramePr>
        <p:xfrm>
          <a:off x="3276720" y="765000"/>
          <a:ext cx="42516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17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765000"/>
                    <a:ext cx="4251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178"/>
          <p:cNvGraphicFramePr/>
          <p:nvPr/>
        </p:nvGraphicFramePr>
        <p:xfrm>
          <a:off x="3630600" y="689040"/>
          <a:ext cx="93672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Object 17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30600" y="689040"/>
                    <a:ext cx="9367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14"/>
          <p:cNvSpPr/>
          <p:nvPr/>
        </p:nvSpPr>
        <p:spPr>
          <a:xfrm>
            <a:off x="236520" y="1208160"/>
            <a:ext cx="45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rice-Demand Fun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0"/>
          <p:cNvSpPr/>
          <p:nvPr/>
        </p:nvSpPr>
        <p:spPr>
          <a:xfrm>
            <a:off x="5064120" y="74916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181"/>
          <p:cNvGraphicFramePr/>
          <p:nvPr/>
        </p:nvGraphicFramePr>
        <p:xfrm>
          <a:off x="2397240" y="1754280"/>
          <a:ext cx="887400" cy="45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Object 18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97240" y="1754280"/>
                    <a:ext cx="88740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82"/>
          <p:cNvGraphicFramePr/>
          <p:nvPr/>
        </p:nvGraphicFramePr>
        <p:xfrm>
          <a:off x="3273480" y="1812960"/>
          <a:ext cx="1477800" cy="385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" name="Object 18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3480" y="1812960"/>
                    <a:ext cx="14778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183"/>
          <p:cNvSpPr/>
          <p:nvPr/>
        </p:nvSpPr>
        <p:spPr>
          <a:xfrm>
            <a:off x="5035680" y="1471680"/>
            <a:ext cx="410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 and n are constants (depending on the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4"/>
          <p:cNvSpPr/>
          <p:nvPr/>
        </p:nvSpPr>
        <p:spPr>
          <a:xfrm>
            <a:off x="2635200" y="2367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5"/>
          <p:cNvSpPr/>
          <p:nvPr/>
        </p:nvSpPr>
        <p:spPr>
          <a:xfrm>
            <a:off x="5035680" y="2416320"/>
            <a:ext cx="41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is the # of items that can be sold at $p per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295200" y="3351240"/>
            <a:ext cx="45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venue Fun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187"/>
          <p:cNvGraphicFramePr/>
          <p:nvPr/>
        </p:nvGraphicFramePr>
        <p:xfrm>
          <a:off x="2117880" y="3951360"/>
          <a:ext cx="887400" cy="45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9" name="Object 18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17880" y="3951360"/>
                    <a:ext cx="88740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188"/>
          <p:cNvGraphicFramePr/>
          <p:nvPr/>
        </p:nvGraphicFramePr>
        <p:xfrm>
          <a:off x="2930400" y="3957480"/>
          <a:ext cx="717840" cy="490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1" name="Object 18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30400" y="3957480"/>
                    <a:ext cx="71784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189"/>
          <p:cNvSpPr/>
          <p:nvPr/>
        </p:nvSpPr>
        <p:spPr>
          <a:xfrm>
            <a:off x="3790800" y="3992400"/>
            <a:ext cx="6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190"/>
          <p:cNvGraphicFramePr/>
          <p:nvPr/>
        </p:nvGraphicFramePr>
        <p:xfrm>
          <a:off x="4449600" y="3983040"/>
          <a:ext cx="887400" cy="455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4" name="Object 19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449600" y="3983040"/>
                    <a:ext cx="8874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191"/>
          <p:cNvGraphicFramePr/>
          <p:nvPr/>
        </p:nvGraphicFramePr>
        <p:xfrm>
          <a:off x="5243400" y="3898800"/>
          <a:ext cx="2152800" cy="700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6" name="Object 19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243400" y="3898800"/>
                    <a:ext cx="215280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Rectangle 14"/>
          <p:cNvSpPr/>
          <p:nvPr/>
        </p:nvSpPr>
        <p:spPr>
          <a:xfrm>
            <a:off x="271440" y="4592520"/>
            <a:ext cx="45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rofit Fun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93"/>
          <p:cNvSpPr/>
          <p:nvPr/>
        </p:nvSpPr>
        <p:spPr>
          <a:xfrm>
            <a:off x="3224160" y="3362400"/>
            <a:ext cx="47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# of items sold*price per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194"/>
          <p:cNvGraphicFramePr/>
          <p:nvPr/>
        </p:nvGraphicFramePr>
        <p:xfrm>
          <a:off x="2901960" y="4587840"/>
          <a:ext cx="887400" cy="455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0" name="Object 19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901960" y="4587840"/>
                    <a:ext cx="8874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195"/>
          <p:cNvGraphicFramePr/>
          <p:nvPr/>
        </p:nvGraphicFramePr>
        <p:xfrm>
          <a:off x="3726000" y="4583160"/>
          <a:ext cx="1309680" cy="490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2" name="Object 19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26000" y="4583160"/>
                    <a:ext cx="130968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196"/>
          <p:cNvSpPr/>
          <p:nvPr/>
        </p:nvSpPr>
        <p:spPr>
          <a:xfrm>
            <a:off x="1792440" y="5154480"/>
            <a:ext cx="6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7"/>
          <p:cNvSpPr/>
          <p:nvPr/>
        </p:nvSpPr>
        <p:spPr>
          <a:xfrm>
            <a:off x="7494480" y="39322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198"/>
          <p:cNvGraphicFramePr/>
          <p:nvPr/>
        </p:nvGraphicFramePr>
        <p:xfrm>
          <a:off x="2892600" y="5130720"/>
          <a:ext cx="887400" cy="455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6" name="Object 19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892600" y="5130720"/>
                    <a:ext cx="8874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99"/>
          <p:cNvGraphicFramePr/>
          <p:nvPr/>
        </p:nvGraphicFramePr>
        <p:xfrm>
          <a:off x="3728880" y="4992840"/>
          <a:ext cx="2152800" cy="699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8" name="Object 19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28880" y="4992840"/>
                    <a:ext cx="215280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200"/>
          <p:cNvGraphicFramePr/>
          <p:nvPr/>
        </p:nvGraphicFramePr>
        <p:xfrm>
          <a:off x="5925960" y="5221440"/>
          <a:ext cx="422280" cy="279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10" name="Object 20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925960" y="5221440"/>
                    <a:ext cx="42228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201"/>
          <p:cNvGraphicFramePr/>
          <p:nvPr/>
        </p:nvGraphicFramePr>
        <p:xfrm>
          <a:off x="6243480" y="4994280"/>
          <a:ext cx="1731960" cy="701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12" name="Object 20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243480" y="4994280"/>
                    <a:ext cx="17319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 Box 202"/>
          <p:cNvSpPr/>
          <p:nvPr/>
        </p:nvSpPr>
        <p:spPr>
          <a:xfrm>
            <a:off x="7391520" y="554976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2"/>
          <p:cNvSpPr/>
          <p:nvPr/>
        </p:nvSpPr>
        <p:spPr>
          <a:xfrm>
            <a:off x="195120" y="343080"/>
            <a:ext cx="89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Price-Demand data from a manufacturer of camer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28" descr=""/>
          <p:cNvPicPr/>
          <p:nvPr/>
        </p:nvPicPr>
        <p:blipFill>
          <a:blip r:embed="rId1"/>
          <a:stretch/>
        </p:blipFill>
        <p:spPr>
          <a:xfrm>
            <a:off x="1149480" y="858960"/>
            <a:ext cx="1438200" cy="16192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5"/>
          <p:cNvSpPr/>
          <p:nvPr/>
        </p:nvSpPr>
        <p:spPr>
          <a:xfrm>
            <a:off x="2996640" y="900000"/>
            <a:ext cx="349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 - Wholesale price per ca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6"/>
          <p:cNvSpPr/>
          <p:nvPr/>
        </p:nvSpPr>
        <p:spPr>
          <a:xfrm>
            <a:off x="3046680" y="1279440"/>
            <a:ext cx="30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 - millions of cameras 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8"/>
          <p:cNvSpPr/>
          <p:nvPr/>
        </p:nvSpPr>
        <p:spPr>
          <a:xfrm>
            <a:off x="2772000" y="1717560"/>
            <a:ext cx="46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* note as price goes down, # sold goe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1"/>
          <p:cNvSpPr/>
          <p:nvPr/>
        </p:nvSpPr>
        <p:spPr>
          <a:xfrm>
            <a:off x="369720" y="2763720"/>
            <a:ext cx="83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) Plot the data in the table and find the price-demand function.  What is the doma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30" descr=""/>
          <p:cNvPicPr/>
          <p:nvPr/>
        </p:nvPicPr>
        <p:blipFill>
          <a:blip r:embed="rId2"/>
          <a:stretch/>
        </p:blipFill>
        <p:spPr>
          <a:xfrm>
            <a:off x="577800" y="3490920"/>
            <a:ext cx="1800360" cy="1743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1" descr=""/>
          <p:cNvPicPr/>
          <p:nvPr/>
        </p:nvPicPr>
        <p:blipFill>
          <a:blip r:embed="rId3"/>
          <a:stretch/>
        </p:blipFill>
        <p:spPr>
          <a:xfrm>
            <a:off x="2641680" y="3490920"/>
            <a:ext cx="1819080" cy="17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2" descr=""/>
          <p:cNvPicPr/>
          <p:nvPr/>
        </p:nvPicPr>
        <p:blipFill>
          <a:blip r:embed="rId4"/>
          <a:stretch/>
        </p:blipFill>
        <p:spPr>
          <a:xfrm>
            <a:off x="4694400" y="3313080"/>
            <a:ext cx="1895400" cy="1924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3" descr=""/>
          <p:cNvPicPr/>
          <p:nvPr/>
        </p:nvPicPr>
        <p:blipFill>
          <a:blip r:embed="rId5"/>
          <a:stretch/>
        </p:blipFill>
        <p:spPr>
          <a:xfrm>
            <a:off x="6838920" y="3384720"/>
            <a:ext cx="1866960" cy="181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Object 134"/>
          <p:cNvGraphicFramePr/>
          <p:nvPr/>
        </p:nvGraphicFramePr>
        <p:xfrm>
          <a:off x="674640" y="5479920"/>
          <a:ext cx="887400" cy="455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5" name="Object 13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4640" y="5479920"/>
                    <a:ext cx="8874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135"/>
          <p:cNvGraphicFramePr/>
          <p:nvPr/>
        </p:nvGraphicFramePr>
        <p:xfrm>
          <a:off x="1550880" y="5538960"/>
          <a:ext cx="1478160" cy="385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7" name="Object 13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50880" y="5538960"/>
                    <a:ext cx="147816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136"/>
          <p:cNvGraphicFramePr/>
          <p:nvPr/>
        </p:nvGraphicFramePr>
        <p:xfrm>
          <a:off x="3676680" y="5591160"/>
          <a:ext cx="2943360" cy="561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9" name="Object 13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676680" y="5591160"/>
                    <a:ext cx="29433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50"/>
          <p:cNvSpPr/>
          <p:nvPr/>
        </p:nvSpPr>
        <p:spPr>
          <a:xfrm>
            <a:off x="3581280" y="5613480"/>
            <a:ext cx="3175200" cy="57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37"/>
          <p:cNvGraphicFramePr/>
          <p:nvPr/>
        </p:nvGraphicFramePr>
        <p:xfrm>
          <a:off x="4013280" y="6227640"/>
          <a:ext cx="807840" cy="478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2" name="Object 13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13280" y="6227640"/>
                    <a:ext cx="80784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38"/>
          <p:cNvGraphicFramePr/>
          <p:nvPr/>
        </p:nvGraphicFramePr>
        <p:xfrm>
          <a:off x="4821120" y="6184800"/>
          <a:ext cx="1835280" cy="514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4" name="Object 13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821120" y="6184800"/>
                    <a:ext cx="18352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53"/>
          <p:cNvSpPr/>
          <p:nvPr/>
        </p:nvSpPr>
        <p:spPr>
          <a:xfrm>
            <a:off x="3733920" y="6130800"/>
            <a:ext cx="3174840" cy="57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262080" y="216000"/>
            <a:ext cx="863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) What is the company's Revenue function for this camera?  What is the domain of the 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2"/>
          <p:cNvGraphicFramePr/>
          <p:nvPr/>
        </p:nvGraphicFramePr>
        <p:xfrm>
          <a:off x="639720" y="1201680"/>
          <a:ext cx="88740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1201680"/>
                    <a:ext cx="8874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3"/>
          <p:cNvGraphicFramePr/>
          <p:nvPr/>
        </p:nvGraphicFramePr>
        <p:xfrm>
          <a:off x="1433520" y="1117440"/>
          <a:ext cx="2152800" cy="7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3520" y="1117440"/>
                    <a:ext cx="215280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5"/>
          <p:cNvGraphicFramePr/>
          <p:nvPr/>
        </p:nvGraphicFramePr>
        <p:xfrm>
          <a:off x="1490760" y="1895400"/>
          <a:ext cx="366480" cy="4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90760" y="1895400"/>
                    <a:ext cx="3664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6"/>
          <p:cNvGraphicFramePr/>
          <p:nvPr/>
        </p:nvGraphicFramePr>
        <p:xfrm>
          <a:off x="1795320" y="1717560"/>
          <a:ext cx="2471760" cy="64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5320" y="1717560"/>
                    <a:ext cx="24717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7"/>
          <p:cNvGraphicFramePr/>
          <p:nvPr/>
        </p:nvGraphicFramePr>
        <p:xfrm>
          <a:off x="652320" y="1773360"/>
          <a:ext cx="887400" cy="455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2320" y="1773360"/>
                    <a:ext cx="88740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8"/>
          <p:cNvSpPr/>
          <p:nvPr/>
        </p:nvSpPr>
        <p:spPr>
          <a:xfrm>
            <a:off x="596880" y="1701720"/>
            <a:ext cx="3733920" cy="57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8"/>
          <p:cNvGraphicFramePr/>
          <p:nvPr/>
        </p:nvGraphicFramePr>
        <p:xfrm>
          <a:off x="5016600" y="1401840"/>
          <a:ext cx="807840" cy="477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9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16600" y="1401840"/>
                    <a:ext cx="8078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9"/>
          <p:cNvGraphicFramePr/>
          <p:nvPr/>
        </p:nvGraphicFramePr>
        <p:xfrm>
          <a:off x="5824440" y="1359000"/>
          <a:ext cx="1835280" cy="514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1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24440" y="1359000"/>
                    <a:ext cx="183528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11"/>
          <p:cNvSpPr/>
          <p:nvPr/>
        </p:nvSpPr>
        <p:spPr>
          <a:xfrm>
            <a:off x="4737240" y="1305000"/>
            <a:ext cx="3174840" cy="57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291960" y="2533680"/>
            <a:ext cx="858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Complete the table, computing revenues to the nearest million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4"/>
          <p:cNvSpPr/>
          <p:nvPr/>
        </p:nvSpPr>
        <p:spPr>
          <a:xfrm>
            <a:off x="3429000" y="3327480"/>
            <a:ext cx="0" cy="27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6"/>
          <p:cNvSpPr/>
          <p:nvPr/>
        </p:nvSpPr>
        <p:spPr>
          <a:xfrm>
            <a:off x="2489040" y="3746520"/>
            <a:ext cx="189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10"/>
          <p:cNvGraphicFramePr/>
          <p:nvPr/>
        </p:nvGraphicFramePr>
        <p:xfrm>
          <a:off x="2532240" y="3292560"/>
          <a:ext cx="366480" cy="403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7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32240" y="3292560"/>
                    <a:ext cx="3664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Rectangle 20"/>
          <p:cNvSpPr/>
          <p:nvPr/>
        </p:nvSpPr>
        <p:spPr>
          <a:xfrm>
            <a:off x="2806560" y="3270240"/>
            <a:ext cx="73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 mill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11"/>
          <p:cNvGraphicFramePr/>
          <p:nvPr/>
        </p:nvGraphicFramePr>
        <p:xfrm>
          <a:off x="3468600" y="3187800"/>
          <a:ext cx="1087560" cy="622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0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68600" y="3187800"/>
                    <a:ext cx="10875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Rectangle 22"/>
          <p:cNvSpPr/>
          <p:nvPr/>
        </p:nvSpPr>
        <p:spPr>
          <a:xfrm>
            <a:off x="4495680" y="3168720"/>
            <a:ext cx="73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 millions of $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9"/>
          <p:cNvSpPr/>
          <p:nvPr/>
        </p:nvSpPr>
        <p:spPr>
          <a:xfrm>
            <a:off x="2817720" y="3801960"/>
            <a:ext cx="4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9"/>
          <p:cNvSpPr/>
          <p:nvPr/>
        </p:nvSpPr>
        <p:spPr>
          <a:xfrm>
            <a:off x="2805120" y="4157640"/>
            <a:ext cx="4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9"/>
          <p:cNvSpPr/>
          <p:nvPr/>
        </p:nvSpPr>
        <p:spPr>
          <a:xfrm>
            <a:off x="2855880" y="4538520"/>
            <a:ext cx="4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99"/>
          <p:cNvSpPr/>
          <p:nvPr/>
        </p:nvSpPr>
        <p:spPr>
          <a:xfrm>
            <a:off x="2843280" y="4957920"/>
            <a:ext cx="4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99"/>
          <p:cNvSpPr/>
          <p:nvPr/>
        </p:nvSpPr>
        <p:spPr>
          <a:xfrm>
            <a:off x="2754360" y="5326200"/>
            <a:ext cx="66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9"/>
          <p:cNvSpPr/>
          <p:nvPr/>
        </p:nvSpPr>
        <p:spPr>
          <a:xfrm>
            <a:off x="2817720" y="5745240"/>
            <a:ext cx="66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5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9"/>
          <p:cNvSpPr/>
          <p:nvPr/>
        </p:nvSpPr>
        <p:spPr>
          <a:xfrm>
            <a:off x="3554280" y="3776760"/>
            <a:ext cx="10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9.79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99"/>
          <p:cNvSpPr/>
          <p:nvPr/>
        </p:nvSpPr>
        <p:spPr>
          <a:xfrm>
            <a:off x="3554280" y="4157640"/>
            <a:ext cx="12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39.6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99"/>
          <p:cNvSpPr/>
          <p:nvPr/>
        </p:nvSpPr>
        <p:spPr>
          <a:xfrm>
            <a:off x="3529080" y="4576680"/>
            <a:ext cx="12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89.94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99"/>
          <p:cNvSpPr/>
          <p:nvPr/>
        </p:nvSpPr>
        <p:spPr>
          <a:xfrm>
            <a:off x="3516480" y="4957920"/>
            <a:ext cx="12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50.99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99"/>
          <p:cNvSpPr/>
          <p:nvPr/>
        </p:nvSpPr>
        <p:spPr>
          <a:xfrm>
            <a:off x="3516480" y="5313240"/>
            <a:ext cx="12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22.76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99"/>
          <p:cNvSpPr/>
          <p:nvPr/>
        </p:nvSpPr>
        <p:spPr>
          <a:xfrm>
            <a:off x="3516480" y="5732640"/>
            <a:ext cx="12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05.25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216000" y="2253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)  Graph the revenue function and change the window appropriately.  Sketch the function below.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kind of graph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Straight Arrow Connector 3"/>
          <p:cNvCxnSpPr/>
          <p:nvPr/>
        </p:nvCxnSpPr>
        <p:spPr>
          <a:xfrm>
            <a:off x="1586520" y="1688760"/>
            <a:ext cx="13320" cy="293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6" name="Straight Arrow Connector 4"/>
          <p:cNvCxnSpPr/>
          <p:nvPr/>
        </p:nvCxnSpPr>
        <p:spPr>
          <a:xfrm flipH="1" flipV="1">
            <a:off x="1358280" y="4406040"/>
            <a:ext cx="31374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7" name="Rectangle 5"/>
          <p:cNvSpPr/>
          <p:nvPr/>
        </p:nvSpPr>
        <p:spPr>
          <a:xfrm>
            <a:off x="320760" y="4835520"/>
            <a:ext cx="85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)  What is the max revenue to the nearest $1,000? For what output of cameras (nearest thousand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99"/>
          <p:cNvSpPr/>
          <p:nvPr/>
        </p:nvSpPr>
        <p:spPr>
          <a:xfrm>
            <a:off x="1141560" y="573264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=9.55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99"/>
          <p:cNvSpPr/>
          <p:nvPr/>
        </p:nvSpPr>
        <p:spPr>
          <a:xfrm>
            <a:off x="1171440" y="6168960"/>
            <a:ext cx="32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,550,000 camera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99"/>
          <p:cNvSpPr/>
          <p:nvPr/>
        </p:nvSpPr>
        <p:spPr>
          <a:xfrm>
            <a:off x="4437000" y="5738760"/>
            <a:ext cx="14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=452.5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9"/>
          <p:cNvSpPr/>
          <p:nvPr/>
        </p:nvSpPr>
        <p:spPr>
          <a:xfrm>
            <a:off x="4484520" y="6186600"/>
            <a:ext cx="42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452,500,000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1066680" y="6118200"/>
            <a:ext cx="7124760" cy="57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174600" y="263520"/>
            <a:ext cx="86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)  What is the wholesale price per camera to nearest dollar to produce the max reven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Object 136"/>
          <p:cNvGraphicFramePr/>
          <p:nvPr/>
        </p:nvGraphicFramePr>
        <p:xfrm>
          <a:off x="1746360" y="1184400"/>
          <a:ext cx="294300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1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1184400"/>
                    <a:ext cx="29430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Rectangle 3"/>
          <p:cNvSpPr/>
          <p:nvPr/>
        </p:nvSpPr>
        <p:spPr>
          <a:xfrm>
            <a:off x="5357880" y="1052640"/>
            <a:ext cx="29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the # of cameras that maximizes revenue for x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3"/>
          <p:cNvGraphicFramePr/>
          <p:nvPr/>
        </p:nvGraphicFramePr>
        <p:xfrm>
          <a:off x="1776240" y="1819440"/>
          <a:ext cx="285912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6240" y="1819440"/>
                    <a:ext cx="285912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5"/>
          <p:cNvGraphicFramePr/>
          <p:nvPr/>
        </p:nvGraphicFramePr>
        <p:xfrm>
          <a:off x="2227320" y="2374920"/>
          <a:ext cx="159048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27320" y="2374920"/>
                    <a:ext cx="159048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7"/>
          <p:cNvSpPr/>
          <p:nvPr/>
        </p:nvSpPr>
        <p:spPr>
          <a:xfrm>
            <a:off x="3745080" y="2411280"/>
            <a:ext cx="29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 ca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2171880" y="2320920"/>
            <a:ext cx="3174840" cy="57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291960" y="3168720"/>
            <a:ext cx="863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)  Given the cost data below, find the cost function for manufacturing the cam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7"/>
          <a:stretch/>
        </p:blipFill>
        <p:spPr>
          <a:xfrm>
            <a:off x="1082520" y="4167360"/>
            <a:ext cx="1810080" cy="191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Object 3"/>
          <p:cNvGraphicFramePr/>
          <p:nvPr/>
        </p:nvGraphicFramePr>
        <p:xfrm>
          <a:off x="4089240" y="4051440"/>
          <a:ext cx="2694240" cy="64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6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089240" y="4051440"/>
                    <a:ext cx="26942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9"/>
          <p:cNvGraphicFramePr/>
          <p:nvPr/>
        </p:nvGraphicFramePr>
        <p:xfrm>
          <a:off x="3522600" y="4724280"/>
          <a:ext cx="3905280" cy="648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8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22600" y="4724280"/>
                    <a:ext cx="390528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Rectangle 14"/>
          <p:cNvSpPr/>
          <p:nvPr/>
        </p:nvSpPr>
        <p:spPr>
          <a:xfrm>
            <a:off x="3416400" y="4695840"/>
            <a:ext cx="4076640" cy="57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190440" y="272880"/>
            <a:ext cx="875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)  Find the company's profit function. Graph and find the max profit an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198"/>
          <p:cNvGraphicFramePr/>
          <p:nvPr/>
        </p:nvGraphicFramePr>
        <p:xfrm>
          <a:off x="1635120" y="1333440"/>
          <a:ext cx="88740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5120" y="1333440"/>
                    <a:ext cx="8874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199"/>
          <p:cNvGraphicFramePr/>
          <p:nvPr/>
        </p:nvGraphicFramePr>
        <p:xfrm>
          <a:off x="2471760" y="1195560"/>
          <a:ext cx="2152800" cy="69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19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1760" y="1195560"/>
                    <a:ext cx="215280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200"/>
          <p:cNvGraphicFramePr/>
          <p:nvPr/>
        </p:nvGraphicFramePr>
        <p:xfrm>
          <a:off x="4668840" y="1424160"/>
          <a:ext cx="422280" cy="2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Object 20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68840" y="1424160"/>
                    <a:ext cx="42228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201"/>
          <p:cNvGraphicFramePr/>
          <p:nvPr/>
        </p:nvGraphicFramePr>
        <p:xfrm>
          <a:off x="4986360" y="1197000"/>
          <a:ext cx="1731960" cy="70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8" name="Object 20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86360" y="1197000"/>
                    <a:ext cx="17319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6"/>
          <p:cNvGraphicFramePr/>
          <p:nvPr/>
        </p:nvGraphicFramePr>
        <p:xfrm>
          <a:off x="1558800" y="1854360"/>
          <a:ext cx="887400" cy="455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58800" y="1854360"/>
                    <a:ext cx="88740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5"/>
          <p:cNvGraphicFramePr/>
          <p:nvPr/>
        </p:nvGraphicFramePr>
        <p:xfrm>
          <a:off x="2455920" y="1946160"/>
          <a:ext cx="366480" cy="40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2" name="Object 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55920" y="1946160"/>
                    <a:ext cx="3664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6"/>
          <p:cNvGraphicFramePr/>
          <p:nvPr/>
        </p:nvGraphicFramePr>
        <p:xfrm>
          <a:off x="2760840" y="1768320"/>
          <a:ext cx="2471400" cy="642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60840" y="1768320"/>
                    <a:ext cx="24714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9"/>
          <p:cNvGraphicFramePr/>
          <p:nvPr/>
        </p:nvGraphicFramePr>
        <p:xfrm>
          <a:off x="5265720" y="1957320"/>
          <a:ext cx="422280" cy="279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6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65720" y="1957320"/>
                    <a:ext cx="42228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3"/>
          <p:cNvGraphicFramePr/>
          <p:nvPr/>
        </p:nvGraphicFramePr>
        <p:xfrm>
          <a:off x="5668920" y="1739880"/>
          <a:ext cx="2811600" cy="647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668920" y="1739880"/>
                    <a:ext cx="28116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11"/>
          <p:cNvGraphicFramePr/>
          <p:nvPr/>
        </p:nvGraphicFramePr>
        <p:xfrm>
          <a:off x="1533600" y="2476440"/>
          <a:ext cx="887400" cy="455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0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533600" y="2476440"/>
                    <a:ext cx="8874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12"/>
          <p:cNvGraphicFramePr/>
          <p:nvPr/>
        </p:nvGraphicFramePr>
        <p:xfrm>
          <a:off x="2292480" y="2463840"/>
          <a:ext cx="1355760" cy="512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2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292480" y="2463840"/>
                    <a:ext cx="13557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13"/>
          <p:cNvGraphicFramePr/>
          <p:nvPr/>
        </p:nvGraphicFramePr>
        <p:xfrm>
          <a:off x="3622680" y="2401920"/>
          <a:ext cx="1539720" cy="585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4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622680" y="2401920"/>
                    <a:ext cx="15397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14"/>
          <p:cNvGraphicFramePr/>
          <p:nvPr/>
        </p:nvGraphicFramePr>
        <p:xfrm>
          <a:off x="5114880" y="2500200"/>
          <a:ext cx="1182600" cy="489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6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114880" y="2500200"/>
                    <a:ext cx="118260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5"/>
          <p:cNvGraphicFramePr/>
          <p:nvPr/>
        </p:nvGraphicFramePr>
        <p:xfrm>
          <a:off x="6297480" y="2500200"/>
          <a:ext cx="1814760" cy="4892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28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297480" y="2500200"/>
                    <a:ext cx="181476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6"/>
          <p:cNvGraphicFramePr/>
          <p:nvPr/>
        </p:nvGraphicFramePr>
        <p:xfrm>
          <a:off x="1457280" y="3073320"/>
          <a:ext cx="887400" cy="4557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30" name="Object 1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457280" y="3073320"/>
                    <a:ext cx="8874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17"/>
          <p:cNvGraphicFramePr/>
          <p:nvPr/>
        </p:nvGraphicFramePr>
        <p:xfrm>
          <a:off x="2289240" y="2973240"/>
          <a:ext cx="1539720" cy="5860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32" name="Object 1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289240" y="2973240"/>
                    <a:ext cx="153972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18"/>
          <p:cNvGraphicFramePr/>
          <p:nvPr/>
        </p:nvGraphicFramePr>
        <p:xfrm>
          <a:off x="3705120" y="3071880"/>
          <a:ext cx="1562040" cy="4888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34" name="Object 18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705120" y="3071880"/>
                    <a:ext cx="15620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9"/>
          <p:cNvGraphicFramePr/>
          <p:nvPr/>
        </p:nvGraphicFramePr>
        <p:xfrm>
          <a:off x="5241960" y="3046320"/>
          <a:ext cx="1182600" cy="4888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36" name="Object 1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241960" y="3046320"/>
                    <a:ext cx="11826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20"/>
          <p:cNvSpPr/>
          <p:nvPr/>
        </p:nvSpPr>
        <p:spPr>
          <a:xfrm>
            <a:off x="1359000" y="2981160"/>
            <a:ext cx="5054400" cy="57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1"/>
          <p:cNvSpPr/>
          <p:nvPr/>
        </p:nvSpPr>
        <p:spPr>
          <a:xfrm>
            <a:off x="442800" y="40114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x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99"/>
          <p:cNvSpPr/>
          <p:nvPr/>
        </p:nvSpPr>
        <p:spPr>
          <a:xfrm>
            <a:off x="600120" y="4378320"/>
            <a:ext cx="32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5 million camera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3"/>
          <p:cNvSpPr/>
          <p:nvPr/>
        </p:nvSpPr>
        <p:spPr>
          <a:xfrm>
            <a:off x="3757680" y="40752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x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9"/>
          <p:cNvSpPr/>
          <p:nvPr/>
        </p:nvSpPr>
        <p:spPr>
          <a:xfrm>
            <a:off x="3989520" y="4408560"/>
            <a:ext cx="42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128.27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241200" y="324000"/>
            <a:ext cx="873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) Find the wholesale price for cameras to produce max pro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136"/>
          <p:cNvGraphicFramePr/>
          <p:nvPr/>
        </p:nvGraphicFramePr>
        <p:xfrm>
          <a:off x="1936800" y="955800"/>
          <a:ext cx="294300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1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0" y="955800"/>
                    <a:ext cx="29430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Rectangle 3"/>
          <p:cNvSpPr/>
          <p:nvPr/>
        </p:nvSpPr>
        <p:spPr>
          <a:xfrm>
            <a:off x="5357880" y="1052640"/>
            <a:ext cx="29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the # of cameras that maximizes profit for x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3"/>
          <p:cNvGraphicFramePr/>
          <p:nvPr/>
        </p:nvGraphicFramePr>
        <p:xfrm>
          <a:off x="2379600" y="1539720"/>
          <a:ext cx="269100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79600" y="1539720"/>
                    <a:ext cx="26910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4"/>
          <p:cNvGraphicFramePr/>
          <p:nvPr/>
        </p:nvGraphicFramePr>
        <p:xfrm>
          <a:off x="3168720" y="2195640"/>
          <a:ext cx="1289160" cy="39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68720" y="2195640"/>
                    <a:ext cx="12891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Rectangle 6"/>
          <p:cNvSpPr/>
          <p:nvPr/>
        </p:nvSpPr>
        <p:spPr>
          <a:xfrm>
            <a:off x="4545000" y="2182680"/>
            <a:ext cx="29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 ca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228600" y="2685960"/>
            <a:ext cx="835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) Find where the company would break even, run at loss, or have a pro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1"/>
          <p:cNvSpPr/>
          <p:nvPr/>
        </p:nvSpPr>
        <p:spPr>
          <a:xfrm>
            <a:off x="487440" y="3587760"/>
            <a:ext cx="42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eak ev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5"/>
          <p:cNvGraphicFramePr/>
          <p:nvPr/>
        </p:nvGraphicFramePr>
        <p:xfrm>
          <a:off x="2328840" y="3521160"/>
          <a:ext cx="1065240" cy="5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28840" y="3521160"/>
                    <a:ext cx="10652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6"/>
          <p:cNvGraphicFramePr/>
          <p:nvPr/>
        </p:nvGraphicFramePr>
        <p:xfrm>
          <a:off x="3421080" y="3579840"/>
          <a:ext cx="279360" cy="393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1080" y="3579840"/>
                    <a:ext cx="2793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7"/>
          <p:cNvGraphicFramePr/>
          <p:nvPr/>
        </p:nvGraphicFramePr>
        <p:xfrm>
          <a:off x="3935520" y="3554280"/>
          <a:ext cx="1206360" cy="393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35520" y="3554280"/>
                    <a:ext cx="12063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8"/>
          <p:cNvGraphicFramePr/>
          <p:nvPr/>
        </p:nvGraphicFramePr>
        <p:xfrm>
          <a:off x="5681520" y="3529080"/>
          <a:ext cx="1346400" cy="393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0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81520" y="3529080"/>
                    <a:ext cx="134640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13"/>
          <p:cNvSpPr/>
          <p:nvPr/>
        </p:nvSpPr>
        <p:spPr>
          <a:xfrm>
            <a:off x="5091120" y="35542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1"/>
          <p:cNvSpPr/>
          <p:nvPr/>
        </p:nvSpPr>
        <p:spPr>
          <a:xfrm>
            <a:off x="677880" y="4044960"/>
            <a:ext cx="11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9"/>
          <p:cNvGraphicFramePr/>
          <p:nvPr/>
        </p:nvGraphicFramePr>
        <p:xfrm>
          <a:off x="2378160" y="4029120"/>
          <a:ext cx="812880" cy="56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4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78160" y="4029120"/>
                    <a:ext cx="8128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0"/>
          <p:cNvGraphicFramePr/>
          <p:nvPr/>
        </p:nvGraphicFramePr>
        <p:xfrm>
          <a:off x="3105000" y="4087800"/>
          <a:ext cx="530280" cy="393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6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105000" y="4087800"/>
                    <a:ext cx="5302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1"/>
          <p:cNvGraphicFramePr/>
          <p:nvPr/>
        </p:nvGraphicFramePr>
        <p:xfrm>
          <a:off x="4146480" y="4062240"/>
          <a:ext cx="1676520" cy="393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8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146480" y="4062240"/>
                    <a:ext cx="16765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Rectangle 18"/>
          <p:cNvSpPr/>
          <p:nvPr/>
        </p:nvSpPr>
        <p:spPr>
          <a:xfrm>
            <a:off x="5891040" y="406224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12"/>
          <p:cNvGraphicFramePr/>
          <p:nvPr/>
        </p:nvGraphicFramePr>
        <p:xfrm>
          <a:off x="6585120" y="4049640"/>
          <a:ext cx="1955520" cy="393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1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585120" y="4049640"/>
                    <a:ext cx="19555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Text Box 201"/>
          <p:cNvSpPr/>
          <p:nvPr/>
        </p:nvSpPr>
        <p:spPr>
          <a:xfrm>
            <a:off x="703440" y="4591080"/>
            <a:ext cx="11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13"/>
          <p:cNvGraphicFramePr/>
          <p:nvPr/>
        </p:nvGraphicFramePr>
        <p:xfrm>
          <a:off x="2365200" y="4562640"/>
          <a:ext cx="812880" cy="561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4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365200" y="4562640"/>
                    <a:ext cx="8128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4"/>
          <p:cNvGraphicFramePr/>
          <p:nvPr/>
        </p:nvGraphicFramePr>
        <p:xfrm>
          <a:off x="3092400" y="4621320"/>
          <a:ext cx="530280" cy="3934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6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092400" y="4621320"/>
                    <a:ext cx="53028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15"/>
          <p:cNvGraphicFramePr/>
          <p:nvPr/>
        </p:nvGraphicFramePr>
        <p:xfrm>
          <a:off x="3905280" y="4608360"/>
          <a:ext cx="2235240" cy="393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78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905280" y="4608360"/>
                    <a:ext cx="22352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2-26T16:06:26Z</dcterms:modified>
  <cp:revision>364</cp:revision>
  <dc:subject/>
  <dc:title>1.6 Solving Absolute Value Equations and  Inequalities</dc:title>
</cp:coreProperties>
</file>