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CBC-1761-4C55-AD0C-5099C800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EAD-F6AC-4440-8D5F-CFAA394E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801-B2F4-4D3D-888A-1831DF43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31C-7C2C-4EAE-823F-E87E6244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7689-144E-43E5-A7C8-A6673A2C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BB44-9990-4F00-9AB7-18F54523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B1E5-6829-420A-8D97-C846F07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89F4-75AA-4E04-9EF2-31882571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7302-54AA-47B8-998F-3B850BF2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9990-1E40-4A86-8DC5-6CDA0516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BA3F-2C0B-4D3A-AE36-FDCFD52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8B7-5130-444A-960C-963E21B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9054-421A-44BE-981E-5904E8A7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35B2-232B-406E-97C2-B87BBA7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61FB-4EA5-4997-8650-0BB63BD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EE46-E70A-4FB4-8F30-3E9EACE4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DDAC-BE02-4910-9929-6FE5555E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7C3-87D2-4FAF-A740-0A0BC1A1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4EE-456D-489D-9463-89009A99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654-7D22-492F-8413-69B98139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76F-AD12-448F-B186-F3DEC81F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7A9-0C25-4525-920B-76F07FE6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B37-D75C-45E0-A285-C95C8623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71F-A133-43B5-981F-AD7113AD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5FA6-DEB0-48D5-8FA1-697189BDB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96EE-DA2D-4DD0-843F-BDD222C8F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%3Chttp:/math.about.com/library/weekly/blbionapier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0lPgIcWaK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xsPlxYbLJ4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rBR2ErXkyA" TargetMode="External"/><Relationship Id="rId2" Type="http://schemas.openxmlformats.org/officeDocument/2006/relationships/hyperlink" Target="http://www.youtube.com/watch?v=e5B5EJJGP4Q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ll About Logarithm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nna, Justin, Ronnie and B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Solv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o by rewriting the equation in exponential 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2895480" y="1981080"/>
                <a:ext cx="2311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re Practice Probl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Sol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his by applying th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ill give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use your log rules to simplify the left side…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2819520" y="1981080"/>
                <a:ext cx="2377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6629400" y="2514600"/>
                <a:ext cx="120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4495680" y="3124080"/>
                <a:ext cx="2637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o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: 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:  Today, I learn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logarith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it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ier, John. "Logarithms: Large Numbers Simplified". ask.com. 4/19/10 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&lt;http://math.about.com/library/weekly/blbionapier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pel, Elizabeth. "Basic Log Rules / Expanding Logarithmic Expressions."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rplem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vailable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purplemath.com/modules/logrules.ht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ccessed 19 April 2010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nxsPlxYbLJ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arBR2ErXk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e5B5EJJGP4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10lPgIcWa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Logarithms Explained". Zyra.org. 4/19/10 &lt;http://www.zyra.org.uk/logs.htm&gt;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l About Logarith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Objective:  to learn everything there is to know and practice using logarith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Up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10³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100000= 10 to the what po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kground Inf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Napier (inventor of the logarith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in 15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not enter school until the age of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greatly interested in astrono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involved in astronomy research that involved long and complicated cal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lead to his discovery of loga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known discovery of logs in 1614 in a book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Description of the Wonderful Canon of Logarithm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d in 16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logarithm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garithm is the power of ten that gives you the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=1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garithm of 1000 i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lso write as log    1000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700680" y="4414680"/>
            <a:ext cx="32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105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g ru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·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10lPgIcWa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09680" y="2133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133720" y="2666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337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11480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26708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72428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94360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791320" y="2133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tural L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ural log is a log with an irrational number as the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 e, = log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l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505320" y="3276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g Tab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 used before calculators as a way to multiply and divide larg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ake the number of zeroes and that is the log of that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1000*100=1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ree zeroes and two zeroes=five zero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5 would have two zeroes if it were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, it is a little more than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(125) is 2.096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aluating L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nxsPlxYbLJ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garithmic equ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arBR2ErXk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youtube.com/watch?v=e5B5EJJGP4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50:19Z</dcterms:created>
  <dc:creator>Jenna Harris</dc:creator>
  <dc:description/>
  <dc:language>en-US</dc:language>
  <cp:lastModifiedBy>JCPS</cp:lastModifiedBy>
  <dcterms:modified xsi:type="dcterms:W3CDTF">2010-04-23T22:08:18Z</dcterms:modified>
  <cp:revision>8</cp:revision>
  <dc:subject/>
  <dc:title>All About Logarithms</dc:title>
</cp:coreProperties>
</file>