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0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E20-4EFA-44A7-9952-4425FEA6F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733-83A2-4CEB-BDBC-3F3B01CB9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04A-10EB-48CE-98A9-E4F9D117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6D2-0294-458A-8A02-6E9B7EF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E3F-02C2-44DF-B63F-8BB1D272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F15-BBCA-4F49-9EDE-C579B0B1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913-2C4C-4AFB-AE51-9B92BF1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617-A1F2-437D-8327-EC427AA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404-101E-47E0-9594-4683FB0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0C1-1BF9-4A99-BF26-DD3531B3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7A9-174C-4DE6-B2C7-29EF667B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0A3-E6DC-4615-BFAC-3254C48C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336-541C-403E-A666-01CD6CC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A00-A4EC-418F-84B2-2D44814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8DC-7CB3-4442-9526-97BFA5569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7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8.png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1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54.wmf"/><Relationship Id="rId17" Type="http://schemas.openxmlformats.org/officeDocument/2006/relationships/image" Target="../media/image55.wmf"/><Relationship Id="rId18" Type="http://schemas.openxmlformats.org/officeDocument/2006/relationships/image" Target="../media/image41.wmf"/><Relationship Id="rId19" Type="http://schemas.openxmlformats.org/officeDocument/2006/relationships/image" Target="../media/image56.wmf"/><Relationship Id="rId20" Type="http://schemas.openxmlformats.org/officeDocument/2006/relationships/image" Target="../media/image50.wmf"/><Relationship Id="rId21" Type="http://schemas.openxmlformats.org/officeDocument/2006/relationships/image" Target="../media/image57.wmf"/><Relationship Id="rId22" Type="http://schemas.openxmlformats.org/officeDocument/2006/relationships/image" Target="../media/image52.wmf"/><Relationship Id="rId23" Type="http://schemas.openxmlformats.org/officeDocument/2006/relationships/image" Target="../media/image53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Basic Counting and Multiplicatio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4256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apply and use addition and multiplication principles with regards to Venn diagrams and count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74840" y="243684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W/INB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5880" y="22255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2 sets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2400" y="3708360"/>
            <a:ext cx="7356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 and B are disjoint (not overlapping)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5640" y="2738520"/>
            <a:ext cx="1942920" cy="658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036080" y="1635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= # i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22480" y="271476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54520" y="2716200"/>
            <a:ext cx="1185840" cy="65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46840" y="2728800"/>
            <a:ext cx="1844640" cy="658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80080" y="3305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082520" y="3240000"/>
            <a:ext cx="1943280" cy="65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954160" y="321624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859200" y="3205080"/>
            <a:ext cx="118584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4983120" y="3230640"/>
            <a:ext cx="1844640" cy="65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1192320" y="4464000"/>
            <a:ext cx="194292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119400" y="4390920"/>
            <a:ext cx="955800" cy="65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4065480" y="4405320"/>
            <a:ext cx="1185840" cy="658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1215360" y="687240"/>
            <a:ext cx="652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asic Countin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246240" y="1293840"/>
            <a:ext cx="85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38 Students take German I, 25 students take Algebra I, and 7 students take both out of a group of 60 students. How many take nei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3550" t="15923" r="5412" b="7641"/>
          <a:stretch/>
        </p:blipFill>
        <p:spPr>
          <a:xfrm>
            <a:off x="6218280" y="2535120"/>
            <a:ext cx="2724120" cy="1744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54800" y="26478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375760" y="26384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435440" y="318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878600" y="31640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51880" y="3189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15720" y="37544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6560" y="3132000"/>
            <a:ext cx="1384560" cy="554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00600" y="26208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06480" y="3051000"/>
            <a:ext cx="4316400" cy="65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795320" y="3800520"/>
            <a:ext cx="822600" cy="46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85880" y="3800520"/>
            <a:ext cx="725760" cy="46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274920" y="3772080"/>
            <a:ext cx="527040" cy="46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884760" y="3763800"/>
            <a:ext cx="822240" cy="46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26800" y="426564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286000" y="4321080"/>
            <a:ext cx="1468440" cy="55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710160" y="4357800"/>
            <a:ext cx="1546200" cy="461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5276880" y="4376880"/>
            <a:ext cx="625320" cy="42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5527800" y="4289400"/>
            <a:ext cx="4428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99120" y="343080"/>
            <a:ext cx="43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phrase these exampl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06360" y="28584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Out of 100 students, 75 take math, 65 take science, and 10 take neither. How many take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14200" y="30099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According to a survey of business firms in Denver, 750 offer health insurance, 640 offer dental insurance, and 280 offer heal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ntal insurance. How many firms offer their employees health insurance OR dental insu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3550" t="15923" r="5412" b="7641"/>
          <a:stretch/>
        </p:blipFill>
        <p:spPr>
          <a:xfrm>
            <a:off x="6419880" y="1068480"/>
            <a:ext cx="2724120" cy="1744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660720" y="11811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585640" y="11714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525160" y="2260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2200" y="12096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6000" y="1693800"/>
            <a:ext cx="2043000" cy="65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170080" y="1695600"/>
            <a:ext cx="4184640" cy="65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44720" y="2401920"/>
            <a:ext cx="824040" cy="46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773440" y="2389320"/>
            <a:ext cx="725400" cy="46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489480" y="2390760"/>
            <a:ext cx="723600" cy="4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302000" y="2392200"/>
            <a:ext cx="824040" cy="462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0"/>
          <p:cNvSpPr/>
          <p:nvPr/>
        </p:nvSpPr>
        <p:spPr>
          <a:xfrm>
            <a:off x="4572000" y="2338560"/>
            <a:ext cx="52236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8"/>
          <a:srcRect l="3550" t="15923" r="5412" b="7641"/>
          <a:stretch/>
        </p:blipFill>
        <p:spPr>
          <a:xfrm>
            <a:off x="6141960" y="4905360"/>
            <a:ext cx="2724120" cy="1744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389640" y="50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79640" y="5008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331040" y="56008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90520" y="5403960"/>
            <a:ext cx="146700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246600" y="48927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’s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1677960" y="5322960"/>
            <a:ext cx="454680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1495440" y="6031080"/>
            <a:ext cx="1020600" cy="461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460600" y="6058080"/>
            <a:ext cx="924120" cy="46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333600" y="6043680"/>
            <a:ext cx="922320" cy="46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>
            <a:off x="4267080" y="6022800"/>
            <a:ext cx="1184400" cy="462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2"/>
          <p:cNvSpPr/>
          <p:nvPr/>
        </p:nvSpPr>
        <p:spPr>
          <a:xfrm>
            <a:off x="4508640" y="5986440"/>
            <a:ext cx="9936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157040" y="0"/>
            <a:ext cx="67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ultiplication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7280" y="84780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that one event can happen and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a 2nd event can happen, then there are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ays they can both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87200" y="215892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When you decide what to wear you can choose from 10 tops (shirts) that you like, 5 pairs of jeans, and 3 pairs of shoes. How many outfits could you put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95560" y="3409920"/>
            <a:ext cx="1512720" cy="46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93960" y="3424320"/>
            <a:ext cx="657360" cy="461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3621240" y="3363840"/>
            <a:ext cx="8730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4960" y="4064040"/>
            <a:ext cx="861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Baskin Robbins offers 31 flavors of ice cream and 5 syrups. You want 2 scoops and one flavor of syrup. How many combina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if 2 ice cream flavors can b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if 2 scoops need to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39960" y="6113520"/>
            <a:ext cx="525240" cy="361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68360" y="6049800"/>
            <a:ext cx="1709640" cy="462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081240" y="6062760"/>
            <a:ext cx="920880" cy="461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4"/>
          <p:cNvSpPr/>
          <p:nvPr/>
        </p:nvSpPr>
        <p:spPr>
          <a:xfrm>
            <a:off x="3060720" y="5977080"/>
            <a:ext cx="91440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470480" y="6068880"/>
            <a:ext cx="49212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834080" y="6041880"/>
            <a:ext cx="460080" cy="46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541920" y="6053040"/>
            <a:ext cx="920880" cy="462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8"/>
          <p:cNvSpPr/>
          <p:nvPr/>
        </p:nvSpPr>
        <p:spPr>
          <a:xfrm>
            <a:off x="6521400" y="5967360"/>
            <a:ext cx="9144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240160" y="604044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802480" y="6032520"/>
            <a:ext cx="6904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228600" y="173160"/>
            <a:ext cx="859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6 - How many ways can you arrange 3 letters and 3 digits in a license plate i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repea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no repea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each successive letter/digit must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2480" y="2352600"/>
            <a:ext cx="525600" cy="3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30240" y="227664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1560" y="2200320"/>
            <a:ext cx="2235240" cy="528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4397400" y="2189160"/>
            <a:ext cx="201924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368360" y="227484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979640" y="2266920"/>
            <a:ext cx="592200" cy="46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482920" y="2244600"/>
            <a:ext cx="590400" cy="462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537000" y="224964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959200" y="225108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574560" y="3021120"/>
            <a:ext cx="492120" cy="46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906480" y="299412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3902040" y="2957400"/>
            <a:ext cx="2201760" cy="528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8"/>
          <p:cNvSpPr/>
          <p:nvPr/>
        </p:nvSpPr>
        <p:spPr>
          <a:xfrm>
            <a:off x="4186080" y="2946240"/>
            <a:ext cx="2005200" cy="55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1344600" y="299232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1955880" y="3000240"/>
            <a:ext cx="592200" cy="42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2498760" y="296244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3073320" y="2967120"/>
            <a:ext cx="393840" cy="461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3462480" y="2967120"/>
            <a:ext cx="393480" cy="461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633240" y="3868560"/>
            <a:ext cx="492120" cy="36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965160" y="3792600"/>
            <a:ext cx="525600" cy="46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976560" y="3755880"/>
            <a:ext cx="2168640" cy="528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7"/>
          <p:cNvSpPr/>
          <p:nvPr/>
        </p:nvSpPr>
        <p:spPr>
          <a:xfrm>
            <a:off x="4286160" y="3745080"/>
            <a:ext cx="1963800" cy="55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1403280" y="379080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2014560" y="3782880"/>
            <a:ext cx="592200" cy="4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2557440" y="3760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3"/>
          <a:stretch/>
        </p:blipFill>
        <p:spPr>
          <a:xfrm>
            <a:off x="3132000" y="3765600"/>
            <a:ext cx="393840" cy="461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4"/>
          <a:stretch/>
        </p:blipFill>
        <p:spPr>
          <a:xfrm>
            <a:off x="3521160" y="3765600"/>
            <a:ext cx="3934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Jeez, Loui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52"/>
          <p:cNvSpPr/>
          <p:nvPr/>
        </p:nvSpPr>
        <p:spPr>
          <a:xfrm>
            <a:off x="5883120" y="419256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find_x_lol"/>
          <p:cNvPicPr/>
          <p:nvPr/>
        </p:nvPicPr>
        <p:blipFill>
          <a:blip r:embed="rId1"/>
          <a:stretch/>
        </p:blipFill>
        <p:spPr>
          <a:xfrm>
            <a:off x="1263600" y="3035160"/>
            <a:ext cx="44514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3T18:20:30Z</dcterms:modified>
  <cp:revision>379</cp:revision>
  <dc:subject/>
  <dc:title>1.6 Solving Absolute Value Equations and  Inequalities</dc:title>
</cp:coreProperties>
</file>