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ED0-DF50-4E4F-9699-238E65BC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140-67B5-49FE-82BC-24DAE169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9E9-4BB0-4FC3-B169-237DE5F8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069-1559-43B4-9BBF-B733724C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B96-41B0-4CAF-BA7D-B4662E17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666-D299-4ACD-8D9C-3338A6C9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1D6-FE46-4940-90E8-22457669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505-62EC-49CF-8318-879D8D80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366-25DF-463E-B838-6FBB23E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6EA-DA1B-4B1E-AB74-A6E76B31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C72-BFCA-40D2-8311-B6A51A38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172-F0CF-4649-AEBE-B08FFF4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FD5-B635-4C0E-A190-DEE40A6E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03D-0626-496B-AC72-188FEB86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F039-54AE-4F8B-8339-58CC2589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view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prepare for quiz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: 9+6+4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raction for 0.151515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irst term if S=9 and r=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sigma notation to express the series 5+10+15+20+…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7099200" y="2273400"/>
            <a:ext cx="5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0"/>
              <p:cNvSpPr txBox="1"/>
              <p:nvPr/>
            </p:nvSpPr>
            <p:spPr>
              <a:xfrm>
                <a:off x="2587680" y="360216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1"/>
              <p:cNvSpPr txBox="1"/>
              <p:nvPr/>
            </p:nvSpPr>
            <p:spPr>
              <a:xfrm>
                <a:off x="4032360" y="52862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Rectangle 15"/>
          <p:cNvSpPr/>
          <p:nvPr/>
        </p:nvSpPr>
        <p:spPr>
          <a:xfrm>
            <a:off x="6599160" y="27464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/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284960" y="32385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3811680" y="3867120"/>
            <a:ext cx="37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+4+8+16+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2"/>
              <p:cNvSpPr txBox="1"/>
              <p:nvPr/>
            </p:nvSpPr>
            <p:spPr>
              <a:xfrm>
                <a:off x="6173640" y="50036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Rectangle 15"/>
          <p:cNvSpPr/>
          <p:nvPr/>
        </p:nvSpPr>
        <p:spPr>
          <a:xfrm>
            <a:off x="4729320" y="612144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5T22:15:50Z</dcterms:modified>
  <cp:revision>316</cp:revision>
  <dc:subject/>
  <dc:title>1.6 Solving Absolute Value Equations and  Inequalities</dc:title>
</cp:coreProperties>
</file>