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png" ContentType="image/png"/>
  <Override PartName="/ppt/media/image2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3669-A49A-4BAA-B47E-65CE3678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1AF5-D251-4B85-AB89-9D7F68BCF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E35-2280-4E42-83B2-D06062C0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89A-31B1-4E4F-BD62-9A975270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4DA-DAD6-41B9-90AE-97D29E54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83E-9571-4D78-AA6F-58AD0DB8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541-D0F3-444F-9256-F9F2F4BF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731-541C-46DD-B58C-9AD6F7A9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9D3-109D-4C22-A7BD-E4CE8976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AE2-659D-4F11-ABCC-EB378E88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BD1-CF22-4204-8D78-7FA19271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A28-DA6E-4C71-B416-F97E9D9D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6FC-DF10-443D-947A-B8B0EC90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5FB-DA60-4D01-83FA-667FD0A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651F-6EE2-4D63-AC54-13B9CEA76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7.wmf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5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pplications of Sequences and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2430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apply sequences and series to real world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W/INB Ch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’re finished…grab a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5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the positive even integers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95"/>
          <p:cNvSpPr/>
          <p:nvPr/>
        </p:nvSpPr>
        <p:spPr>
          <a:xfrm>
            <a:off x="1468440" y="149868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95"/>
          <p:cNvSpPr/>
          <p:nvPr/>
        </p:nvSpPr>
        <p:spPr>
          <a:xfrm>
            <a:off x="1768320" y="150192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95"/>
          <p:cNvSpPr/>
          <p:nvPr/>
        </p:nvSpPr>
        <p:spPr>
          <a:xfrm>
            <a:off x="2216160" y="149400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95"/>
          <p:cNvSpPr/>
          <p:nvPr/>
        </p:nvSpPr>
        <p:spPr>
          <a:xfrm>
            <a:off x="2685960" y="149220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+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4065480" y="1432080"/>
            <a:ext cx="97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ith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32"/>
          <p:cNvGraphicFramePr/>
          <p:nvPr/>
        </p:nvGraphicFramePr>
        <p:xfrm>
          <a:off x="560520" y="2208240"/>
          <a:ext cx="226692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2208240"/>
                    <a:ext cx="22669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7"/>
          <p:cNvGraphicFramePr/>
          <p:nvPr/>
        </p:nvGraphicFramePr>
        <p:xfrm>
          <a:off x="2876400" y="2612880"/>
          <a:ext cx="29556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2612880"/>
                    <a:ext cx="2955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4"/>
          <p:cNvGraphicFramePr/>
          <p:nvPr/>
        </p:nvGraphicFramePr>
        <p:xfrm>
          <a:off x="3284640" y="2252520"/>
          <a:ext cx="185580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4640" y="2252520"/>
                    <a:ext cx="1855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5"/>
          <p:cNvGraphicFramePr/>
          <p:nvPr/>
        </p:nvGraphicFramePr>
        <p:xfrm>
          <a:off x="3525840" y="2317680"/>
          <a:ext cx="29376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5840" y="2317680"/>
                    <a:ext cx="293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36"/>
          <p:cNvGraphicFramePr/>
          <p:nvPr/>
        </p:nvGraphicFramePr>
        <p:xfrm>
          <a:off x="3732120" y="2303640"/>
          <a:ext cx="8254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Object 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2120" y="2303640"/>
                    <a:ext cx="8254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7"/>
          <p:cNvGraphicFramePr/>
          <p:nvPr/>
        </p:nvGraphicFramePr>
        <p:xfrm>
          <a:off x="4626000" y="2308320"/>
          <a:ext cx="44136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Object 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26000" y="2308320"/>
                    <a:ext cx="441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8"/>
          <p:cNvGraphicFramePr/>
          <p:nvPr/>
        </p:nvGraphicFramePr>
        <p:xfrm>
          <a:off x="5016600" y="2565360"/>
          <a:ext cx="108720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" name="Object 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16600" y="2565360"/>
                    <a:ext cx="1087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39"/>
          <p:cNvSpPr/>
          <p:nvPr/>
        </p:nvSpPr>
        <p:spPr>
          <a:xfrm>
            <a:off x="5280120" y="2500200"/>
            <a:ext cx="942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95"/>
          <p:cNvSpPr/>
          <p:nvPr/>
        </p:nvSpPr>
        <p:spPr>
          <a:xfrm>
            <a:off x="230040" y="3460680"/>
            <a:ext cx="73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how many multiples of 4 are there between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 and 7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95"/>
          <p:cNvSpPr/>
          <p:nvPr/>
        </p:nvSpPr>
        <p:spPr>
          <a:xfrm>
            <a:off x="1365120" y="438156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5"/>
          <p:cNvSpPr/>
          <p:nvPr/>
        </p:nvSpPr>
        <p:spPr>
          <a:xfrm>
            <a:off x="1854360" y="438624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95"/>
          <p:cNvSpPr/>
          <p:nvPr/>
        </p:nvSpPr>
        <p:spPr>
          <a:xfrm>
            <a:off x="2395440" y="434808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95"/>
          <p:cNvSpPr/>
          <p:nvPr/>
        </p:nvSpPr>
        <p:spPr>
          <a:xfrm>
            <a:off x="3013200" y="434664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95"/>
          <p:cNvSpPr/>
          <p:nvPr/>
        </p:nvSpPr>
        <p:spPr>
          <a:xfrm>
            <a:off x="3465360" y="438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882720" y="49737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ith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2160720" y="501336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9"/>
          <p:cNvGraphicFramePr/>
          <p:nvPr/>
        </p:nvGraphicFramePr>
        <p:xfrm>
          <a:off x="5408640" y="4056120"/>
          <a:ext cx="244296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5" name="Object 4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08640" y="405612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50"/>
          <p:cNvGraphicFramePr/>
          <p:nvPr/>
        </p:nvGraphicFramePr>
        <p:xfrm>
          <a:off x="5364000" y="4602240"/>
          <a:ext cx="471600" cy="41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" name="Object 5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64000" y="4602240"/>
                    <a:ext cx="4716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51"/>
          <p:cNvGraphicFramePr/>
          <p:nvPr/>
        </p:nvGraphicFramePr>
        <p:xfrm>
          <a:off x="5867280" y="4660920"/>
          <a:ext cx="29556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" name="Object 5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4660920"/>
                    <a:ext cx="2955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52"/>
          <p:cNvGraphicFramePr/>
          <p:nvPr/>
        </p:nvGraphicFramePr>
        <p:xfrm>
          <a:off x="6067440" y="4592520"/>
          <a:ext cx="471600" cy="412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1" name="Object 5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67440" y="4592520"/>
                    <a:ext cx="4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3"/>
          <p:cNvGraphicFramePr/>
          <p:nvPr/>
        </p:nvGraphicFramePr>
        <p:xfrm>
          <a:off x="6489720" y="4560840"/>
          <a:ext cx="1179360" cy="471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3" name="Object 5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89720" y="4560840"/>
                    <a:ext cx="11793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54"/>
          <p:cNvGraphicFramePr/>
          <p:nvPr/>
        </p:nvGraphicFramePr>
        <p:xfrm>
          <a:off x="7556400" y="4584600"/>
          <a:ext cx="295200" cy="384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5" name="Object 5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56400" y="4584600"/>
                    <a:ext cx="295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55"/>
          <p:cNvGraphicFramePr/>
          <p:nvPr/>
        </p:nvGraphicFramePr>
        <p:xfrm>
          <a:off x="5435640" y="5118120"/>
          <a:ext cx="471600" cy="382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7" name="Object 5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35640" y="5118120"/>
                    <a:ext cx="4716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6"/>
          <p:cNvGraphicFramePr/>
          <p:nvPr/>
        </p:nvGraphicFramePr>
        <p:xfrm>
          <a:off x="5886360" y="5216400"/>
          <a:ext cx="295200" cy="26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9" name="Object 5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886360" y="521640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7"/>
          <p:cNvGraphicFramePr/>
          <p:nvPr/>
        </p:nvGraphicFramePr>
        <p:xfrm>
          <a:off x="6199200" y="5089680"/>
          <a:ext cx="473040" cy="412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1" name="Object 5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199200" y="5089680"/>
                    <a:ext cx="4730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8"/>
          <p:cNvGraphicFramePr/>
          <p:nvPr/>
        </p:nvGraphicFramePr>
        <p:xfrm>
          <a:off x="6670800" y="5103720"/>
          <a:ext cx="473040" cy="382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3" name="Object 5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70800" y="5103720"/>
                    <a:ext cx="4730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59"/>
          <p:cNvGraphicFramePr/>
          <p:nvPr/>
        </p:nvGraphicFramePr>
        <p:xfrm>
          <a:off x="5397480" y="5613480"/>
          <a:ext cx="471600" cy="411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" name="Object 5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397480" y="5613480"/>
                    <a:ext cx="4716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60"/>
          <p:cNvGraphicFramePr/>
          <p:nvPr/>
        </p:nvGraphicFramePr>
        <p:xfrm>
          <a:off x="5878440" y="5759280"/>
          <a:ext cx="295200" cy="265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" name="Object 6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78440" y="57592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61"/>
          <p:cNvGraphicFramePr/>
          <p:nvPr/>
        </p:nvGraphicFramePr>
        <p:xfrm>
          <a:off x="6230880" y="5611680"/>
          <a:ext cx="473040" cy="412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9" name="Object 6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230880" y="5611680"/>
                    <a:ext cx="473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62"/>
          <p:cNvGraphicFramePr/>
          <p:nvPr/>
        </p:nvGraphicFramePr>
        <p:xfrm>
          <a:off x="5576760" y="6114960"/>
          <a:ext cx="974880" cy="4129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1" name="Object 6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576760" y="6114960"/>
                    <a:ext cx="974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3"/>
          <p:cNvSpPr/>
          <p:nvPr/>
        </p:nvSpPr>
        <p:spPr>
          <a:xfrm>
            <a:off x="5595840" y="6053040"/>
            <a:ext cx="9432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216000" y="22212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pump removes 5% of the water in a pool each minute. What % remains after 10 minu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16"/>
          <p:cNvGraphicFramePr/>
          <p:nvPr/>
        </p:nvGraphicFramePr>
        <p:xfrm>
          <a:off x="6648480" y="2800440"/>
          <a:ext cx="1531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8480" y="2800440"/>
                    <a:ext cx="1531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15"/>
          <p:cNvSpPr/>
          <p:nvPr/>
        </p:nvSpPr>
        <p:spPr>
          <a:xfrm>
            <a:off x="1622520" y="1154160"/>
            <a:ext cx="42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much is in the pool initially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857920" y="11685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35"/>
          <p:cNvGraphicFramePr/>
          <p:nvPr/>
        </p:nvGraphicFramePr>
        <p:xfrm>
          <a:off x="1938240" y="2909880"/>
          <a:ext cx="29376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8240" y="2909880"/>
                    <a:ext cx="293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1587600" y="1641600"/>
            <a:ext cx="4271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much is in the pool the next minute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5862600" y="177804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5%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9"/>
          <p:cNvGraphicFramePr/>
          <p:nvPr/>
        </p:nvGraphicFramePr>
        <p:xfrm>
          <a:off x="2220840" y="2840040"/>
          <a:ext cx="10558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0840" y="2840040"/>
                    <a:ext cx="1055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15"/>
          <p:cNvSpPr/>
          <p:nvPr/>
        </p:nvSpPr>
        <p:spPr>
          <a:xfrm>
            <a:off x="2708280" y="2209680"/>
            <a:ext cx="42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n 95% of that, et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1"/>
          <p:cNvGraphicFramePr/>
          <p:nvPr/>
        </p:nvGraphicFramePr>
        <p:xfrm>
          <a:off x="3282840" y="2801880"/>
          <a:ext cx="1201680" cy="6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2840" y="2801880"/>
                    <a:ext cx="12016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42"/>
          <p:cNvGraphicFramePr/>
          <p:nvPr/>
        </p:nvGraphicFramePr>
        <p:xfrm>
          <a:off x="4473720" y="2792520"/>
          <a:ext cx="1465200" cy="64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73720" y="2792520"/>
                    <a:ext cx="1465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5"/>
          <p:cNvSpPr/>
          <p:nvPr/>
        </p:nvSpPr>
        <p:spPr>
          <a:xfrm>
            <a:off x="792000" y="372600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much is in the pool after 10 minut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4"/>
          <p:cNvGraphicFramePr/>
          <p:nvPr/>
        </p:nvGraphicFramePr>
        <p:xfrm>
          <a:off x="2876400" y="4343400"/>
          <a:ext cx="1425600" cy="80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76400" y="4343400"/>
                    <a:ext cx="1425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37"/>
          <p:cNvGraphicFramePr/>
          <p:nvPr/>
        </p:nvGraphicFramePr>
        <p:xfrm>
          <a:off x="4305240" y="4643280"/>
          <a:ext cx="29520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05240" y="46432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46"/>
          <p:cNvGraphicFramePr/>
          <p:nvPr/>
        </p:nvGraphicFramePr>
        <p:xfrm>
          <a:off x="4659480" y="4529160"/>
          <a:ext cx="981000" cy="50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59480" y="4529160"/>
                    <a:ext cx="981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47"/>
          <p:cNvGraphicFramePr/>
          <p:nvPr/>
        </p:nvGraphicFramePr>
        <p:xfrm>
          <a:off x="5842080" y="4635360"/>
          <a:ext cx="29520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Object 4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42080" y="463536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8"/>
          <p:cNvGraphicFramePr/>
          <p:nvPr/>
        </p:nvGraphicFramePr>
        <p:xfrm>
          <a:off x="6200640" y="4465800"/>
          <a:ext cx="944640" cy="50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Object 4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00640" y="4465800"/>
                    <a:ext cx="94464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49"/>
          <p:cNvSpPr/>
          <p:nvPr/>
        </p:nvSpPr>
        <p:spPr>
          <a:xfrm>
            <a:off x="6173640" y="4425840"/>
            <a:ext cx="9432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50"/>
          <p:cNvGraphicFramePr/>
          <p:nvPr/>
        </p:nvGraphicFramePr>
        <p:xfrm>
          <a:off x="6629400" y="1676520"/>
          <a:ext cx="1201680" cy="587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2" name="Object 5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29400" y="1676520"/>
                    <a:ext cx="12016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1"/>
          <p:cNvGraphicFramePr/>
          <p:nvPr/>
        </p:nvGraphicFramePr>
        <p:xfrm>
          <a:off x="1801800" y="4443480"/>
          <a:ext cx="976320" cy="652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4" name="Object 5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01800" y="4443480"/>
                    <a:ext cx="976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231840" y="235080"/>
            <a:ext cx="82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John rented an apt in 2003 for $600 a month. If his monthly rent was increased 5% at the end of each year, how much was his monthly rent in 2009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95"/>
          <p:cNvSpPr/>
          <p:nvPr/>
        </p:nvSpPr>
        <p:spPr>
          <a:xfrm>
            <a:off x="974880" y="157176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95"/>
          <p:cNvSpPr/>
          <p:nvPr/>
        </p:nvSpPr>
        <p:spPr>
          <a:xfrm>
            <a:off x="2378160" y="153504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27"/>
          <p:cNvGraphicFramePr/>
          <p:nvPr/>
        </p:nvGraphicFramePr>
        <p:xfrm>
          <a:off x="1114560" y="2009880"/>
          <a:ext cx="86652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009880"/>
                    <a:ext cx="8665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8"/>
          <p:cNvGraphicFramePr/>
          <p:nvPr/>
        </p:nvGraphicFramePr>
        <p:xfrm>
          <a:off x="1967040" y="1928880"/>
          <a:ext cx="202248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7040" y="1928880"/>
                    <a:ext cx="20224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495"/>
          <p:cNvSpPr/>
          <p:nvPr/>
        </p:nvSpPr>
        <p:spPr>
          <a:xfrm>
            <a:off x="4386240" y="152568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0"/>
          <p:cNvGraphicFramePr/>
          <p:nvPr/>
        </p:nvGraphicFramePr>
        <p:xfrm>
          <a:off x="3898800" y="1857240"/>
          <a:ext cx="252756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98800" y="1857240"/>
                    <a:ext cx="2527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2130480" y="2841480"/>
          <a:ext cx="173520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0480" y="2841480"/>
                    <a:ext cx="17352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2"/>
          <p:cNvGraphicFramePr/>
          <p:nvPr/>
        </p:nvGraphicFramePr>
        <p:xfrm>
          <a:off x="2031840" y="3635280"/>
          <a:ext cx="93996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31840" y="3635280"/>
                    <a:ext cx="9399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3"/>
          <p:cNvGraphicFramePr/>
          <p:nvPr/>
        </p:nvGraphicFramePr>
        <p:xfrm>
          <a:off x="2960640" y="3595680"/>
          <a:ext cx="202248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60640" y="3595680"/>
                    <a:ext cx="20224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7"/>
          <p:cNvGraphicFramePr/>
          <p:nvPr/>
        </p:nvGraphicFramePr>
        <p:xfrm>
          <a:off x="4994280" y="3922560"/>
          <a:ext cx="29520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2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94280" y="392256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5"/>
          <p:cNvGraphicFramePr/>
          <p:nvPr/>
        </p:nvGraphicFramePr>
        <p:xfrm>
          <a:off x="5357880" y="3765600"/>
          <a:ext cx="1525680" cy="50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57880" y="3765600"/>
                    <a:ext cx="1525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36"/>
          <p:cNvSpPr/>
          <p:nvPr/>
        </p:nvSpPr>
        <p:spPr>
          <a:xfrm>
            <a:off x="5326200" y="3713040"/>
            <a:ext cx="16160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09520" y="19836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stack of cans has 12 cans on the top layer, 13 o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yer, and so on. If there are 20 cans on the bottom layer, how many total cans are on the displ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95"/>
          <p:cNvSpPr/>
          <p:nvPr/>
        </p:nvSpPr>
        <p:spPr>
          <a:xfrm>
            <a:off x="1252440" y="14968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5"/>
          <p:cNvSpPr/>
          <p:nvPr/>
        </p:nvSpPr>
        <p:spPr>
          <a:xfrm>
            <a:off x="1633680" y="151452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95"/>
          <p:cNvSpPr/>
          <p:nvPr/>
        </p:nvSpPr>
        <p:spPr>
          <a:xfrm>
            <a:off x="2133720" y="152100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95"/>
          <p:cNvSpPr/>
          <p:nvPr/>
        </p:nvSpPr>
        <p:spPr>
          <a:xfrm>
            <a:off x="2685960" y="149220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154480" y="153828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25"/>
          <p:cNvGraphicFramePr/>
          <p:nvPr/>
        </p:nvGraphicFramePr>
        <p:xfrm>
          <a:off x="1079640" y="2066760"/>
          <a:ext cx="244296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06676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26"/>
          <p:cNvGraphicFramePr/>
          <p:nvPr/>
        </p:nvGraphicFramePr>
        <p:xfrm>
          <a:off x="1035000" y="2612880"/>
          <a:ext cx="47160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5000" y="2612880"/>
                    <a:ext cx="4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7"/>
          <p:cNvGraphicFramePr/>
          <p:nvPr/>
        </p:nvGraphicFramePr>
        <p:xfrm>
          <a:off x="1538280" y="2671920"/>
          <a:ext cx="295200" cy="26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8280" y="2671920"/>
                    <a:ext cx="2952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8"/>
          <p:cNvGraphicFramePr/>
          <p:nvPr/>
        </p:nvGraphicFramePr>
        <p:xfrm>
          <a:off x="1766880" y="2617920"/>
          <a:ext cx="41292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6880" y="2617920"/>
                    <a:ext cx="4129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9"/>
          <p:cNvGraphicFramePr/>
          <p:nvPr/>
        </p:nvGraphicFramePr>
        <p:xfrm>
          <a:off x="2160720" y="2571840"/>
          <a:ext cx="1179360" cy="47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60720" y="2571840"/>
                    <a:ext cx="11793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0"/>
          <p:cNvGraphicFramePr/>
          <p:nvPr/>
        </p:nvGraphicFramePr>
        <p:xfrm>
          <a:off x="3271680" y="2595600"/>
          <a:ext cx="206640" cy="3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1680" y="2595600"/>
                    <a:ext cx="2066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1"/>
          <p:cNvGraphicFramePr/>
          <p:nvPr/>
        </p:nvGraphicFramePr>
        <p:xfrm>
          <a:off x="1209600" y="3114720"/>
          <a:ext cx="26532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09600" y="3114720"/>
                    <a:ext cx="265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32"/>
          <p:cNvGraphicFramePr/>
          <p:nvPr/>
        </p:nvGraphicFramePr>
        <p:xfrm>
          <a:off x="1557360" y="3227400"/>
          <a:ext cx="29520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Object 3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57360" y="3227400"/>
                    <a:ext cx="2952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33"/>
          <p:cNvGraphicFramePr/>
          <p:nvPr/>
        </p:nvGraphicFramePr>
        <p:xfrm>
          <a:off x="1957320" y="3144960"/>
          <a:ext cx="297000" cy="32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Object 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57320" y="3144960"/>
                    <a:ext cx="2970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4"/>
          <p:cNvGraphicFramePr/>
          <p:nvPr/>
        </p:nvGraphicFramePr>
        <p:xfrm>
          <a:off x="2355840" y="3114720"/>
          <a:ext cx="442800" cy="382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55840" y="3114720"/>
                    <a:ext cx="4428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5"/>
          <p:cNvGraphicFramePr/>
          <p:nvPr/>
        </p:nvGraphicFramePr>
        <p:xfrm>
          <a:off x="1171440" y="3624120"/>
          <a:ext cx="265320" cy="41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3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71440" y="3624120"/>
                    <a:ext cx="26532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36"/>
          <p:cNvGraphicFramePr/>
          <p:nvPr/>
        </p:nvGraphicFramePr>
        <p:xfrm>
          <a:off x="1549440" y="3770280"/>
          <a:ext cx="295200" cy="26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5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49440" y="37702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7"/>
          <p:cNvGraphicFramePr/>
          <p:nvPr/>
        </p:nvGraphicFramePr>
        <p:xfrm>
          <a:off x="1990800" y="3666960"/>
          <a:ext cx="295200" cy="324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7" name="Object 3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90800" y="3666960"/>
                    <a:ext cx="2952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40"/>
          <p:cNvSpPr/>
          <p:nvPr/>
        </p:nvSpPr>
        <p:spPr>
          <a:xfrm>
            <a:off x="5172120" y="22273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w, sum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1"/>
          <p:cNvGraphicFramePr/>
          <p:nvPr/>
        </p:nvGraphicFramePr>
        <p:xfrm>
          <a:off x="3587760" y="2975040"/>
          <a:ext cx="2266920" cy="971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0" name="Object 4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87760" y="2975040"/>
                    <a:ext cx="22669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42"/>
          <p:cNvGraphicFramePr/>
          <p:nvPr/>
        </p:nvGraphicFramePr>
        <p:xfrm>
          <a:off x="5986440" y="3352680"/>
          <a:ext cx="295200" cy="26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2" name="Object 4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86440" y="33526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43"/>
          <p:cNvGraphicFramePr/>
          <p:nvPr/>
        </p:nvGraphicFramePr>
        <p:xfrm>
          <a:off x="6377040" y="2924280"/>
          <a:ext cx="1855800" cy="971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4" name="Object 4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77040" y="2924280"/>
                    <a:ext cx="18558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44"/>
          <p:cNvGraphicFramePr/>
          <p:nvPr/>
        </p:nvGraphicFramePr>
        <p:xfrm>
          <a:off x="6559560" y="2989440"/>
          <a:ext cx="411120" cy="38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6" name="Object 4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9560" y="2989440"/>
                    <a:ext cx="4111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5"/>
          <p:cNvGraphicFramePr/>
          <p:nvPr/>
        </p:nvGraphicFramePr>
        <p:xfrm>
          <a:off x="6913440" y="2975040"/>
          <a:ext cx="648000" cy="412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8" name="Object 4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13440" y="2975040"/>
                    <a:ext cx="648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46"/>
          <p:cNvGraphicFramePr/>
          <p:nvPr/>
        </p:nvGraphicFramePr>
        <p:xfrm>
          <a:off x="7805880" y="2979720"/>
          <a:ext cx="264960" cy="412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0" name="Object 4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805880" y="2979720"/>
                    <a:ext cx="264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47"/>
          <p:cNvGraphicFramePr/>
          <p:nvPr/>
        </p:nvGraphicFramePr>
        <p:xfrm>
          <a:off x="6262560" y="4421160"/>
          <a:ext cx="881280" cy="382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2" name="Object 4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262560" y="4421160"/>
                    <a:ext cx="8812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48"/>
          <p:cNvSpPr/>
          <p:nvPr/>
        </p:nvSpPr>
        <p:spPr>
          <a:xfrm>
            <a:off x="6489720" y="4368960"/>
            <a:ext cx="72720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22"/>
          <p:cNvSpPr/>
          <p:nvPr/>
        </p:nvSpPr>
        <p:spPr>
          <a:xfrm>
            <a:off x="206280" y="1514520"/>
            <a:ext cx="42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Applications worksheet #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42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43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equences and series are useful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2"/>
          <p:cNvSpPr/>
          <p:nvPr/>
        </p:nvSpPr>
        <p:spPr>
          <a:xfrm>
            <a:off x="376200" y="463716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rl020610"/>
          <p:cNvPicPr/>
          <p:nvPr/>
        </p:nvPicPr>
        <p:blipFill>
          <a:blip r:embed="rId1"/>
          <a:stretch/>
        </p:blipFill>
        <p:spPr>
          <a:xfrm>
            <a:off x="4903920" y="1405080"/>
            <a:ext cx="40179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13T21:52:39Z</dcterms:modified>
  <cp:revision>302</cp:revision>
  <dc:subject/>
  <dc:title>1.6 Solving Absolute Value Equations and  Inequalities</dc:title>
</cp:coreProperties>
</file>