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png" ContentType="image/png"/>
  <Override PartName="/ppt/media/image2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C394-A60E-4089-AFE6-5688D4B31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6B9E-4C50-4B69-8EEF-940C822F3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322-449C-4E22-B591-8E6106B0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84D-3B78-446F-9C00-77191B69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663-8143-47B8-9FA8-7A00AF6F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21E3-EAD7-4C12-965F-0FC0E370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52F-56A9-4EDF-9E71-5D5E4E2B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686-3E9A-42DD-B5C6-DCB4D2EC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3E07-ED0C-47F8-8D91-2A361456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D03-1332-4BB4-AF52-18C48F2C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34E-3B6D-4169-8A64-6A48A1F1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E0D-ECF9-4959-B2A7-40780721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419-FA5D-4D2E-A4B0-22028358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DBAC-FD45-40BD-906C-F08AD230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F33B-0961-4FC6-BDA3-A3A0B6CE7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4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7.wmf"/><Relationship Id="rId4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7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44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5.wmf"/><Relationship Id="rId4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pplications of Sequences and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370"/>
          <p:cNvSpPr/>
          <p:nvPr/>
        </p:nvSpPr>
        <p:spPr>
          <a:xfrm>
            <a:off x="270000" y="12430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apply sequences and series to real world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379440" y="232092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W/INB Che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you’re finished…grab a qui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95"/>
          <p:cNvSpPr/>
          <p:nvPr/>
        </p:nvSpPr>
        <p:spPr>
          <a:xfrm>
            <a:off x="239760" y="84780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sum of the positive even integers to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95"/>
          <p:cNvSpPr/>
          <p:nvPr/>
        </p:nvSpPr>
        <p:spPr>
          <a:xfrm>
            <a:off x="1468440" y="1498680"/>
            <a:ext cx="4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95"/>
          <p:cNvSpPr/>
          <p:nvPr/>
        </p:nvSpPr>
        <p:spPr>
          <a:xfrm>
            <a:off x="1768320" y="1501920"/>
            <a:ext cx="8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95"/>
          <p:cNvSpPr/>
          <p:nvPr/>
        </p:nvSpPr>
        <p:spPr>
          <a:xfrm>
            <a:off x="2216160" y="1494000"/>
            <a:ext cx="8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95"/>
          <p:cNvSpPr/>
          <p:nvPr/>
        </p:nvSpPr>
        <p:spPr>
          <a:xfrm>
            <a:off x="2685960" y="1492200"/>
            <a:ext cx="14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…+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4065480" y="1432080"/>
            <a:ext cx="97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rith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32"/>
          <p:cNvGraphicFramePr/>
          <p:nvPr/>
        </p:nvGraphicFramePr>
        <p:xfrm>
          <a:off x="560520" y="2208240"/>
          <a:ext cx="226692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2208240"/>
                    <a:ext cx="22669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7"/>
          <p:cNvGraphicFramePr/>
          <p:nvPr/>
        </p:nvGraphicFramePr>
        <p:xfrm>
          <a:off x="2876400" y="2612880"/>
          <a:ext cx="295560" cy="2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6400" y="2612880"/>
                    <a:ext cx="29556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34"/>
          <p:cNvGraphicFramePr/>
          <p:nvPr/>
        </p:nvGraphicFramePr>
        <p:xfrm>
          <a:off x="3284640" y="2252520"/>
          <a:ext cx="1855800" cy="9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4640" y="2252520"/>
                    <a:ext cx="18558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35"/>
          <p:cNvGraphicFramePr/>
          <p:nvPr/>
        </p:nvGraphicFramePr>
        <p:xfrm>
          <a:off x="3525840" y="2317680"/>
          <a:ext cx="293760" cy="3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Object 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25840" y="2317680"/>
                    <a:ext cx="2937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36"/>
          <p:cNvGraphicFramePr/>
          <p:nvPr/>
        </p:nvGraphicFramePr>
        <p:xfrm>
          <a:off x="3732120" y="2303640"/>
          <a:ext cx="8254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Object 3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2120" y="2303640"/>
                    <a:ext cx="8254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37"/>
          <p:cNvGraphicFramePr/>
          <p:nvPr/>
        </p:nvGraphicFramePr>
        <p:xfrm>
          <a:off x="4626000" y="2308320"/>
          <a:ext cx="441360" cy="41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" name="Object 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26000" y="2308320"/>
                    <a:ext cx="4413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38"/>
          <p:cNvGraphicFramePr/>
          <p:nvPr/>
        </p:nvGraphicFramePr>
        <p:xfrm>
          <a:off x="5016600" y="2565360"/>
          <a:ext cx="1087200" cy="41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4" name="Object 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16600" y="2565360"/>
                    <a:ext cx="10872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39"/>
          <p:cNvSpPr/>
          <p:nvPr/>
        </p:nvSpPr>
        <p:spPr>
          <a:xfrm>
            <a:off x="5280120" y="2500200"/>
            <a:ext cx="9428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95"/>
          <p:cNvSpPr/>
          <p:nvPr/>
        </p:nvSpPr>
        <p:spPr>
          <a:xfrm>
            <a:off x="230040" y="3460680"/>
            <a:ext cx="73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how many multiples of 4 are there between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5 and 7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95"/>
          <p:cNvSpPr/>
          <p:nvPr/>
        </p:nvSpPr>
        <p:spPr>
          <a:xfrm>
            <a:off x="1365120" y="438156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8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95"/>
          <p:cNvSpPr/>
          <p:nvPr/>
        </p:nvSpPr>
        <p:spPr>
          <a:xfrm>
            <a:off x="1854360" y="4386240"/>
            <a:ext cx="8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95"/>
          <p:cNvSpPr/>
          <p:nvPr/>
        </p:nvSpPr>
        <p:spPr>
          <a:xfrm>
            <a:off x="2395440" y="4348080"/>
            <a:ext cx="8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95"/>
          <p:cNvSpPr/>
          <p:nvPr/>
        </p:nvSpPr>
        <p:spPr>
          <a:xfrm>
            <a:off x="3013200" y="4346640"/>
            <a:ext cx="14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…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95"/>
          <p:cNvSpPr/>
          <p:nvPr/>
        </p:nvSpPr>
        <p:spPr>
          <a:xfrm>
            <a:off x="3465360" y="43848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882720" y="497376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rith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2160720" y="5013360"/>
            <a:ext cx="214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We need to find 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49"/>
          <p:cNvGraphicFramePr/>
          <p:nvPr/>
        </p:nvGraphicFramePr>
        <p:xfrm>
          <a:off x="5408640" y="4056120"/>
          <a:ext cx="2442960" cy="530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5" name="Object 4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08640" y="4056120"/>
                    <a:ext cx="24429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50"/>
          <p:cNvGraphicFramePr/>
          <p:nvPr/>
        </p:nvGraphicFramePr>
        <p:xfrm>
          <a:off x="5364000" y="4602240"/>
          <a:ext cx="471600" cy="412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" name="Object 5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64000" y="4602240"/>
                    <a:ext cx="4716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51"/>
          <p:cNvGraphicFramePr/>
          <p:nvPr/>
        </p:nvGraphicFramePr>
        <p:xfrm>
          <a:off x="5867280" y="4660920"/>
          <a:ext cx="295560" cy="264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" name="Object 5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67280" y="4660920"/>
                    <a:ext cx="29556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52"/>
          <p:cNvGraphicFramePr/>
          <p:nvPr/>
        </p:nvGraphicFramePr>
        <p:xfrm>
          <a:off x="6067440" y="4592520"/>
          <a:ext cx="471600" cy="412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1" name="Object 5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67440" y="4592520"/>
                    <a:ext cx="4716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53"/>
          <p:cNvGraphicFramePr/>
          <p:nvPr/>
        </p:nvGraphicFramePr>
        <p:xfrm>
          <a:off x="6489720" y="4560840"/>
          <a:ext cx="1179360" cy="471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3" name="Object 5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89720" y="4560840"/>
                    <a:ext cx="11793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54"/>
          <p:cNvGraphicFramePr/>
          <p:nvPr/>
        </p:nvGraphicFramePr>
        <p:xfrm>
          <a:off x="7556400" y="4584600"/>
          <a:ext cx="295200" cy="384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5" name="Object 5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56400" y="4584600"/>
                    <a:ext cx="2952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55"/>
          <p:cNvGraphicFramePr/>
          <p:nvPr/>
        </p:nvGraphicFramePr>
        <p:xfrm>
          <a:off x="5435640" y="5118120"/>
          <a:ext cx="471600" cy="3826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7" name="Object 5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435640" y="5118120"/>
                    <a:ext cx="4716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56"/>
          <p:cNvGraphicFramePr/>
          <p:nvPr/>
        </p:nvGraphicFramePr>
        <p:xfrm>
          <a:off x="5886360" y="5216400"/>
          <a:ext cx="295200" cy="2653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9" name="Object 5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886360" y="5216400"/>
                    <a:ext cx="295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57"/>
          <p:cNvGraphicFramePr/>
          <p:nvPr/>
        </p:nvGraphicFramePr>
        <p:xfrm>
          <a:off x="6199200" y="5089680"/>
          <a:ext cx="473040" cy="4125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01" name="Object 5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199200" y="5089680"/>
                    <a:ext cx="4730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58"/>
          <p:cNvGraphicFramePr/>
          <p:nvPr/>
        </p:nvGraphicFramePr>
        <p:xfrm>
          <a:off x="6670800" y="5103720"/>
          <a:ext cx="473040" cy="3826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03" name="Object 58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70800" y="5103720"/>
                    <a:ext cx="4730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59"/>
          <p:cNvGraphicFramePr/>
          <p:nvPr/>
        </p:nvGraphicFramePr>
        <p:xfrm>
          <a:off x="5397480" y="5613480"/>
          <a:ext cx="471600" cy="4111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" name="Object 5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397480" y="5613480"/>
                    <a:ext cx="4716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60"/>
          <p:cNvGraphicFramePr/>
          <p:nvPr/>
        </p:nvGraphicFramePr>
        <p:xfrm>
          <a:off x="5878440" y="5759280"/>
          <a:ext cx="295200" cy="2653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07" name="Object 60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878440" y="5759280"/>
                    <a:ext cx="295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61"/>
          <p:cNvGraphicFramePr/>
          <p:nvPr/>
        </p:nvGraphicFramePr>
        <p:xfrm>
          <a:off x="6230880" y="5611680"/>
          <a:ext cx="473040" cy="4129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09" name="Object 61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230880" y="5611680"/>
                    <a:ext cx="4730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62"/>
          <p:cNvGraphicFramePr/>
          <p:nvPr/>
        </p:nvGraphicFramePr>
        <p:xfrm>
          <a:off x="5576760" y="6114960"/>
          <a:ext cx="974880" cy="4129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11" name="Object 62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576760" y="6114960"/>
                    <a:ext cx="9748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63"/>
          <p:cNvSpPr/>
          <p:nvPr/>
        </p:nvSpPr>
        <p:spPr>
          <a:xfrm>
            <a:off x="5595840" y="6053040"/>
            <a:ext cx="94320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4"/>
          <p:cNvSpPr/>
          <p:nvPr/>
        </p:nvSpPr>
        <p:spPr>
          <a:xfrm>
            <a:off x="216000" y="222120"/>
            <a:ext cx="82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 pump removes 5% of the water in a pool each minute. What % remains after 10 minu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16"/>
          <p:cNvGraphicFramePr/>
          <p:nvPr/>
        </p:nvGraphicFramePr>
        <p:xfrm>
          <a:off x="6648480" y="2800440"/>
          <a:ext cx="153180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48480" y="2800440"/>
                    <a:ext cx="15318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15"/>
          <p:cNvSpPr/>
          <p:nvPr/>
        </p:nvSpPr>
        <p:spPr>
          <a:xfrm>
            <a:off x="1622520" y="1154160"/>
            <a:ext cx="427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ow much is in the pool initially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5857920" y="116856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00%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35"/>
          <p:cNvGraphicFramePr/>
          <p:nvPr/>
        </p:nvGraphicFramePr>
        <p:xfrm>
          <a:off x="1938240" y="2909880"/>
          <a:ext cx="29376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38240" y="2909880"/>
                    <a:ext cx="2937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15"/>
          <p:cNvSpPr/>
          <p:nvPr/>
        </p:nvSpPr>
        <p:spPr>
          <a:xfrm>
            <a:off x="1587600" y="1641600"/>
            <a:ext cx="4271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ow much is in the pool the next minute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5862600" y="177804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95%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39"/>
          <p:cNvGraphicFramePr/>
          <p:nvPr/>
        </p:nvGraphicFramePr>
        <p:xfrm>
          <a:off x="2220840" y="2840040"/>
          <a:ext cx="1055880" cy="5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20840" y="2840040"/>
                    <a:ext cx="10558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15"/>
          <p:cNvSpPr/>
          <p:nvPr/>
        </p:nvSpPr>
        <p:spPr>
          <a:xfrm>
            <a:off x="2708280" y="2209680"/>
            <a:ext cx="42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n 95% of that, et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41"/>
          <p:cNvGraphicFramePr/>
          <p:nvPr/>
        </p:nvGraphicFramePr>
        <p:xfrm>
          <a:off x="3282840" y="2801880"/>
          <a:ext cx="1201680" cy="64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Object 4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82840" y="2801880"/>
                    <a:ext cx="120168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42"/>
          <p:cNvGraphicFramePr/>
          <p:nvPr/>
        </p:nvGraphicFramePr>
        <p:xfrm>
          <a:off x="4473720" y="2792520"/>
          <a:ext cx="1465200" cy="64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Object 4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73720" y="2792520"/>
                    <a:ext cx="146520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15"/>
          <p:cNvSpPr/>
          <p:nvPr/>
        </p:nvSpPr>
        <p:spPr>
          <a:xfrm>
            <a:off x="792000" y="3726000"/>
            <a:ext cx="69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ow much is in the pool after 10 minut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4"/>
          <p:cNvGraphicFramePr/>
          <p:nvPr/>
        </p:nvGraphicFramePr>
        <p:xfrm>
          <a:off x="2876400" y="4343400"/>
          <a:ext cx="1425600" cy="80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1" name="Object 4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76400" y="4343400"/>
                    <a:ext cx="14256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37"/>
          <p:cNvGraphicFramePr/>
          <p:nvPr/>
        </p:nvGraphicFramePr>
        <p:xfrm>
          <a:off x="4305240" y="4643280"/>
          <a:ext cx="295200" cy="265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3" name="Object 3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05240" y="4643280"/>
                    <a:ext cx="295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46"/>
          <p:cNvGraphicFramePr/>
          <p:nvPr/>
        </p:nvGraphicFramePr>
        <p:xfrm>
          <a:off x="4659480" y="4529160"/>
          <a:ext cx="981000" cy="506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5" name="Object 4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59480" y="4529160"/>
                    <a:ext cx="9810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47"/>
          <p:cNvGraphicFramePr/>
          <p:nvPr/>
        </p:nvGraphicFramePr>
        <p:xfrm>
          <a:off x="5842080" y="4635360"/>
          <a:ext cx="295200" cy="265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7" name="Object 4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42080" y="4635360"/>
                    <a:ext cx="295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48"/>
          <p:cNvGraphicFramePr/>
          <p:nvPr/>
        </p:nvGraphicFramePr>
        <p:xfrm>
          <a:off x="6200640" y="4465800"/>
          <a:ext cx="944640" cy="506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9" name="Object 4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00640" y="4465800"/>
                    <a:ext cx="94464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49"/>
          <p:cNvSpPr/>
          <p:nvPr/>
        </p:nvSpPr>
        <p:spPr>
          <a:xfrm>
            <a:off x="6173640" y="4425840"/>
            <a:ext cx="94320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50"/>
          <p:cNvGraphicFramePr/>
          <p:nvPr/>
        </p:nvGraphicFramePr>
        <p:xfrm>
          <a:off x="6629400" y="1676520"/>
          <a:ext cx="1201680" cy="587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2" name="Object 5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629400" y="1676520"/>
                    <a:ext cx="120168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51"/>
          <p:cNvGraphicFramePr/>
          <p:nvPr/>
        </p:nvGraphicFramePr>
        <p:xfrm>
          <a:off x="1801800" y="4443480"/>
          <a:ext cx="976320" cy="652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4" name="Object 51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01800" y="4443480"/>
                    <a:ext cx="9763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231840" y="235080"/>
            <a:ext cx="826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John rented an apt in 2003 for $600 a month. If his monthly rent was increased 5% at the end of each year, how much was his monthly rent in 2009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95"/>
          <p:cNvSpPr/>
          <p:nvPr/>
        </p:nvSpPr>
        <p:spPr>
          <a:xfrm>
            <a:off x="974880" y="1571760"/>
            <a:ext cx="14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95"/>
          <p:cNvSpPr/>
          <p:nvPr/>
        </p:nvSpPr>
        <p:spPr>
          <a:xfrm>
            <a:off x="2378160" y="1535040"/>
            <a:ext cx="14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27"/>
          <p:cNvGraphicFramePr/>
          <p:nvPr/>
        </p:nvGraphicFramePr>
        <p:xfrm>
          <a:off x="1114560" y="2009880"/>
          <a:ext cx="866520" cy="57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2009880"/>
                    <a:ext cx="86652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28"/>
          <p:cNvGraphicFramePr/>
          <p:nvPr/>
        </p:nvGraphicFramePr>
        <p:xfrm>
          <a:off x="1967040" y="1928880"/>
          <a:ext cx="2022480" cy="7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7040" y="1928880"/>
                    <a:ext cx="202248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495"/>
          <p:cNvSpPr/>
          <p:nvPr/>
        </p:nvSpPr>
        <p:spPr>
          <a:xfrm>
            <a:off x="4386240" y="1525680"/>
            <a:ext cx="14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30"/>
          <p:cNvGraphicFramePr/>
          <p:nvPr/>
        </p:nvGraphicFramePr>
        <p:xfrm>
          <a:off x="3898800" y="1857240"/>
          <a:ext cx="2527560" cy="79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98800" y="1857240"/>
                    <a:ext cx="2527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6"/>
          <p:cNvGraphicFramePr/>
          <p:nvPr/>
        </p:nvGraphicFramePr>
        <p:xfrm>
          <a:off x="2130480" y="2841480"/>
          <a:ext cx="1735200" cy="6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0480" y="2841480"/>
                    <a:ext cx="17352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2"/>
          <p:cNvGraphicFramePr/>
          <p:nvPr/>
        </p:nvGraphicFramePr>
        <p:xfrm>
          <a:off x="2031840" y="3635280"/>
          <a:ext cx="939960" cy="70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Object 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31840" y="3635280"/>
                    <a:ext cx="9399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33"/>
          <p:cNvGraphicFramePr/>
          <p:nvPr/>
        </p:nvGraphicFramePr>
        <p:xfrm>
          <a:off x="2960640" y="3595680"/>
          <a:ext cx="2022480" cy="79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0" name="Object 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60640" y="3595680"/>
                    <a:ext cx="20224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37"/>
          <p:cNvGraphicFramePr/>
          <p:nvPr/>
        </p:nvGraphicFramePr>
        <p:xfrm>
          <a:off x="4994280" y="3922560"/>
          <a:ext cx="295200" cy="265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2" name="Object 3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94280" y="3922560"/>
                    <a:ext cx="295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35"/>
          <p:cNvGraphicFramePr/>
          <p:nvPr/>
        </p:nvGraphicFramePr>
        <p:xfrm>
          <a:off x="5357880" y="3765600"/>
          <a:ext cx="1525680" cy="506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4" name="Object 3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57880" y="3765600"/>
                    <a:ext cx="15256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36"/>
          <p:cNvSpPr/>
          <p:nvPr/>
        </p:nvSpPr>
        <p:spPr>
          <a:xfrm>
            <a:off x="5326200" y="3713040"/>
            <a:ext cx="16160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209520" y="198360"/>
            <a:ext cx="826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 stack of cans has 12 cans on the top layer, 13 o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ayer, and so on. If there are 20 cans on the bottom layer, how many total cans are on the displ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95"/>
          <p:cNvSpPr/>
          <p:nvPr/>
        </p:nvSpPr>
        <p:spPr>
          <a:xfrm>
            <a:off x="1252440" y="149688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95"/>
          <p:cNvSpPr/>
          <p:nvPr/>
        </p:nvSpPr>
        <p:spPr>
          <a:xfrm>
            <a:off x="1633680" y="1514520"/>
            <a:ext cx="8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95"/>
          <p:cNvSpPr/>
          <p:nvPr/>
        </p:nvSpPr>
        <p:spPr>
          <a:xfrm>
            <a:off x="2133720" y="1521000"/>
            <a:ext cx="8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95"/>
          <p:cNvSpPr/>
          <p:nvPr/>
        </p:nvSpPr>
        <p:spPr>
          <a:xfrm>
            <a:off x="2685960" y="1492200"/>
            <a:ext cx="14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…+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4"/>
          <p:cNvSpPr/>
          <p:nvPr/>
        </p:nvSpPr>
        <p:spPr>
          <a:xfrm>
            <a:off x="5154480" y="1538280"/>
            <a:ext cx="292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rst we need to find 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25"/>
          <p:cNvGraphicFramePr/>
          <p:nvPr/>
        </p:nvGraphicFramePr>
        <p:xfrm>
          <a:off x="1079640" y="2066760"/>
          <a:ext cx="2442960" cy="5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2066760"/>
                    <a:ext cx="24429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26"/>
          <p:cNvGraphicFramePr/>
          <p:nvPr/>
        </p:nvGraphicFramePr>
        <p:xfrm>
          <a:off x="1035000" y="2612880"/>
          <a:ext cx="47160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5000" y="2612880"/>
                    <a:ext cx="4716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37"/>
          <p:cNvGraphicFramePr/>
          <p:nvPr/>
        </p:nvGraphicFramePr>
        <p:xfrm>
          <a:off x="1538280" y="2671920"/>
          <a:ext cx="295200" cy="26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Object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38280" y="2671920"/>
                    <a:ext cx="29520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28"/>
          <p:cNvGraphicFramePr/>
          <p:nvPr/>
        </p:nvGraphicFramePr>
        <p:xfrm>
          <a:off x="1766880" y="2617920"/>
          <a:ext cx="412920" cy="38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" name="Object 2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6880" y="2617920"/>
                    <a:ext cx="41292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9"/>
          <p:cNvGraphicFramePr/>
          <p:nvPr/>
        </p:nvGraphicFramePr>
        <p:xfrm>
          <a:off x="2160720" y="2571840"/>
          <a:ext cx="1179360" cy="47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1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60720" y="2571840"/>
                    <a:ext cx="117936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30"/>
          <p:cNvGraphicFramePr/>
          <p:nvPr/>
        </p:nvGraphicFramePr>
        <p:xfrm>
          <a:off x="3271680" y="2595600"/>
          <a:ext cx="206640" cy="384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" name="Object 3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1680" y="2595600"/>
                    <a:ext cx="20664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31"/>
          <p:cNvGraphicFramePr/>
          <p:nvPr/>
        </p:nvGraphicFramePr>
        <p:xfrm>
          <a:off x="1209600" y="3114720"/>
          <a:ext cx="265320" cy="411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Object 3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09600" y="3114720"/>
                    <a:ext cx="2653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32"/>
          <p:cNvGraphicFramePr/>
          <p:nvPr/>
        </p:nvGraphicFramePr>
        <p:xfrm>
          <a:off x="1557360" y="3227400"/>
          <a:ext cx="295200" cy="26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Object 3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57360" y="3227400"/>
                    <a:ext cx="29520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33"/>
          <p:cNvGraphicFramePr/>
          <p:nvPr/>
        </p:nvGraphicFramePr>
        <p:xfrm>
          <a:off x="1957320" y="3144960"/>
          <a:ext cx="297000" cy="323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Object 3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57320" y="3144960"/>
                    <a:ext cx="29700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34"/>
          <p:cNvGraphicFramePr/>
          <p:nvPr/>
        </p:nvGraphicFramePr>
        <p:xfrm>
          <a:off x="2355840" y="3114720"/>
          <a:ext cx="442800" cy="382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Object 3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55840" y="3114720"/>
                    <a:ext cx="4428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5"/>
          <p:cNvGraphicFramePr/>
          <p:nvPr/>
        </p:nvGraphicFramePr>
        <p:xfrm>
          <a:off x="1171440" y="3624120"/>
          <a:ext cx="265320" cy="411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3" name="Object 3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71440" y="3624120"/>
                    <a:ext cx="26532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36"/>
          <p:cNvGraphicFramePr/>
          <p:nvPr/>
        </p:nvGraphicFramePr>
        <p:xfrm>
          <a:off x="1549440" y="3770280"/>
          <a:ext cx="295200" cy="265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5" name="Object 3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549440" y="3770280"/>
                    <a:ext cx="295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37"/>
          <p:cNvGraphicFramePr/>
          <p:nvPr/>
        </p:nvGraphicFramePr>
        <p:xfrm>
          <a:off x="1990800" y="3666960"/>
          <a:ext cx="295200" cy="324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7" name="Object 3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90800" y="3666960"/>
                    <a:ext cx="2952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40"/>
          <p:cNvSpPr/>
          <p:nvPr/>
        </p:nvSpPr>
        <p:spPr>
          <a:xfrm>
            <a:off x="5172120" y="2227320"/>
            <a:ext cx="29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ow, sum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1"/>
          <p:cNvGraphicFramePr/>
          <p:nvPr/>
        </p:nvGraphicFramePr>
        <p:xfrm>
          <a:off x="3587760" y="2975040"/>
          <a:ext cx="2266920" cy="971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00" name="Object 4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587760" y="2975040"/>
                    <a:ext cx="22669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42"/>
          <p:cNvGraphicFramePr/>
          <p:nvPr/>
        </p:nvGraphicFramePr>
        <p:xfrm>
          <a:off x="5986440" y="3352680"/>
          <a:ext cx="295200" cy="2653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02" name="Object 4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986440" y="3352680"/>
                    <a:ext cx="295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43"/>
          <p:cNvGraphicFramePr/>
          <p:nvPr/>
        </p:nvGraphicFramePr>
        <p:xfrm>
          <a:off x="6377040" y="2924280"/>
          <a:ext cx="1855800" cy="971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04" name="Object 4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377040" y="2924280"/>
                    <a:ext cx="18558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44"/>
          <p:cNvGraphicFramePr/>
          <p:nvPr/>
        </p:nvGraphicFramePr>
        <p:xfrm>
          <a:off x="6559560" y="2989440"/>
          <a:ext cx="411120" cy="384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06" name="Object 44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59560" y="2989440"/>
                    <a:ext cx="4111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45"/>
          <p:cNvGraphicFramePr/>
          <p:nvPr/>
        </p:nvGraphicFramePr>
        <p:xfrm>
          <a:off x="6913440" y="2975040"/>
          <a:ext cx="648000" cy="4125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8" name="Object 4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913440" y="2975040"/>
                    <a:ext cx="6480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46"/>
          <p:cNvGraphicFramePr/>
          <p:nvPr/>
        </p:nvGraphicFramePr>
        <p:xfrm>
          <a:off x="7805880" y="2979720"/>
          <a:ext cx="264960" cy="4129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10" name="Object 4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805880" y="2979720"/>
                    <a:ext cx="2649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47"/>
          <p:cNvGraphicFramePr/>
          <p:nvPr/>
        </p:nvGraphicFramePr>
        <p:xfrm>
          <a:off x="6262560" y="4421160"/>
          <a:ext cx="881280" cy="3826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12" name="Object 47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262560" y="4421160"/>
                    <a:ext cx="88128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48"/>
          <p:cNvSpPr/>
          <p:nvPr/>
        </p:nvSpPr>
        <p:spPr>
          <a:xfrm>
            <a:off x="6489720" y="4368960"/>
            <a:ext cx="727200" cy="53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622"/>
          <p:cNvSpPr/>
          <p:nvPr/>
        </p:nvSpPr>
        <p:spPr>
          <a:xfrm>
            <a:off x="206280" y="1514520"/>
            <a:ext cx="42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Applications worksheet #1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42"/>
          <p:cNvSpPr/>
          <p:nvPr/>
        </p:nvSpPr>
        <p:spPr>
          <a:xfrm>
            <a:off x="263520" y="185760"/>
            <a:ext cx="82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43"/>
          <p:cNvSpPr/>
          <p:nvPr/>
        </p:nvSpPr>
        <p:spPr>
          <a:xfrm>
            <a:off x="301680" y="741240"/>
            <a:ext cx="82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equences and series are useful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52"/>
          <p:cNvSpPr/>
          <p:nvPr/>
        </p:nvSpPr>
        <p:spPr>
          <a:xfrm>
            <a:off x="376200" y="4637160"/>
            <a:ext cx="400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9" descr="rl020610"/>
          <p:cNvPicPr/>
          <p:nvPr/>
        </p:nvPicPr>
        <p:blipFill>
          <a:blip r:embed="rId1"/>
          <a:stretch/>
        </p:blipFill>
        <p:spPr>
          <a:xfrm>
            <a:off x="4903920" y="1405080"/>
            <a:ext cx="401796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13T21:52:39Z</dcterms:modified>
  <cp:revision>302</cp:revision>
  <dc:subject/>
  <dc:title>1.6 Solving Absolute Value Equations and  Inequalities</dc:title>
</cp:coreProperties>
</file>