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5.wmf" ContentType="image/x-wmf"/>
  <Override PartName="/ppt/media/image7.png" ContentType="image/png"/>
  <Override PartName="/ppt/media/image32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7733-3022-4ED2-B128-D2B74FE9E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9316-2F1F-4B86-A033-20F67F6E2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A6B3-894D-4B62-8755-8DB5DD93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311C-0FAB-42C1-BEF1-288D1671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4D81-8176-4A6E-B861-EFEC6BEB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7A9-D423-4DDE-955F-FFC3E9B1D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7618-D385-45C7-AEFB-AEF8C9F2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507F-C7A5-447F-BB6D-3AECD406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7DAF-85BA-439B-93CE-CA953DCA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ABB0-737F-432C-8DF9-07D3EFA6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74EB-2F1A-4AE1-86C3-991E98FF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D4F6-4486-4E2F-A9D7-6DA826B0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660C-FD78-49C5-AE32-97BAD6F6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1AC6-FFBE-417B-8114-E3D2111F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1AF4-BADF-4D0A-A479-650E4BE66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1.wmf"/><Relationship Id="rId3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1.wmf"/><Relationship Id="rId3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2.3 Linear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370"/>
          <p:cNvSpPr/>
          <p:nvPr/>
        </p:nvSpPr>
        <p:spPr>
          <a:xfrm>
            <a:off x="270000" y="106380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use intercepts, properties of slopes and equations of 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ss the transformations, include the type of 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20"/>
          <p:cNvGraphicFramePr/>
          <p:nvPr/>
        </p:nvGraphicFramePr>
        <p:xfrm>
          <a:off x="1440000" y="3838680"/>
          <a:ext cx="241272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000" y="3838680"/>
                    <a:ext cx="241272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26"/>
          <p:cNvSpPr/>
          <p:nvPr/>
        </p:nvSpPr>
        <p:spPr>
          <a:xfrm>
            <a:off x="4509360" y="393552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Quadratic, right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34"/>
          <p:cNvGraphicFramePr/>
          <p:nvPr/>
        </p:nvGraphicFramePr>
        <p:xfrm>
          <a:off x="1425600" y="4545000"/>
          <a:ext cx="2441520" cy="5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5600" y="4545000"/>
                    <a:ext cx="244152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35"/>
          <p:cNvGraphicFramePr/>
          <p:nvPr/>
        </p:nvGraphicFramePr>
        <p:xfrm>
          <a:off x="1488960" y="5194440"/>
          <a:ext cx="2981520" cy="65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Object 3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88960" y="5194440"/>
                    <a:ext cx="298152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36"/>
          <p:cNvSpPr/>
          <p:nvPr/>
        </p:nvSpPr>
        <p:spPr>
          <a:xfrm>
            <a:off x="4651200" y="462744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Abs Value, reflect over x-axis, up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7"/>
          <p:cNvSpPr/>
          <p:nvPr/>
        </p:nvSpPr>
        <p:spPr>
          <a:xfrm>
            <a:off x="4873320" y="5334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Cube root, left 1, down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42800" y="1822320"/>
            <a:ext cx="27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ine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122"/>
          <p:cNvGraphicFramePr/>
          <p:nvPr/>
        </p:nvGraphicFramePr>
        <p:xfrm>
          <a:off x="2967120" y="1782720"/>
          <a:ext cx="204444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67120" y="1782720"/>
                    <a:ext cx="204444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Rectangle 14"/>
          <p:cNvSpPr/>
          <p:nvPr/>
        </p:nvSpPr>
        <p:spPr>
          <a:xfrm>
            <a:off x="431640" y="75888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is a linear equation not a 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1695600" y="1284120"/>
            <a:ext cx="59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it’s a vertical li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139"/>
          <p:cNvGraphicFramePr/>
          <p:nvPr/>
        </p:nvGraphicFramePr>
        <p:xfrm>
          <a:off x="5599080" y="1293840"/>
          <a:ext cx="766800" cy="39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13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99080" y="1293840"/>
                    <a:ext cx="7668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14"/>
          <p:cNvSpPr/>
          <p:nvPr/>
        </p:nvSpPr>
        <p:spPr>
          <a:xfrm>
            <a:off x="839880" y="2567160"/>
            <a:ext cx="59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m=0, then it’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nstan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1309680" y="3103560"/>
            <a:ext cx="22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: all real #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1336680" y="3668760"/>
            <a:ext cx="10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: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3821040" y="327960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rizontal li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476280" y="430056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-intercept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2533680" y="4314960"/>
            <a:ext cx="28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y or f(x)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495360" y="493704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-intercept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4"/>
          <p:cNvSpPr/>
          <p:nvPr/>
        </p:nvSpPr>
        <p:spPr>
          <a:xfrm>
            <a:off x="2552760" y="495144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x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4"/>
          <p:cNvSpPr/>
          <p:nvPr/>
        </p:nvSpPr>
        <p:spPr>
          <a:xfrm>
            <a:off x="244440" y="27612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graph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36"/>
          <p:cNvGraphicFramePr/>
          <p:nvPr/>
        </p:nvGraphicFramePr>
        <p:xfrm>
          <a:off x="836640" y="846000"/>
          <a:ext cx="176040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846000"/>
                    <a:ext cx="176040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46" descr="20x20grid"/>
          <p:cNvPicPr/>
          <p:nvPr/>
        </p:nvPicPr>
        <p:blipFill>
          <a:blip r:embed="rId3"/>
          <a:stretch/>
        </p:blipFill>
        <p:spPr>
          <a:xfrm>
            <a:off x="5675400" y="3303720"/>
            <a:ext cx="3063960" cy="30715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4"/>
          <p:cNvSpPr/>
          <p:nvPr/>
        </p:nvSpPr>
        <p:spPr>
          <a:xfrm>
            <a:off x="4686480" y="563400"/>
            <a:ext cx="36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ou pick your metho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262080" y="149076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th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274680" y="19335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ke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55"/>
          <p:cNvGrpSpPr/>
          <p:nvPr/>
        </p:nvGrpSpPr>
        <p:grpSpPr>
          <a:xfrm>
            <a:off x="282600" y="2462040"/>
            <a:ext cx="928800" cy="1625760"/>
            <a:chOff x="282600" y="2462040"/>
            <a:chExt cx="928800" cy="1625760"/>
          </a:xfrm>
        </p:grpSpPr>
        <p:sp>
          <p:nvSpPr>
            <p:cNvPr id="87" name="Rectangle 14"/>
            <p:cNvSpPr/>
            <p:nvPr/>
          </p:nvSpPr>
          <p:spPr>
            <a:xfrm>
              <a:off x="360360" y="246204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51"/>
            <p:cNvSpPr/>
            <p:nvPr/>
          </p:nvSpPr>
          <p:spPr>
            <a:xfrm>
              <a:off x="739800" y="2514600"/>
              <a:ext cx="0" cy="157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2"/>
            <p:cNvSpPr/>
            <p:nvPr/>
          </p:nvSpPr>
          <p:spPr>
            <a:xfrm>
              <a:off x="282600" y="2824200"/>
              <a:ext cx="88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4"/>
            <p:cNvSpPr/>
            <p:nvPr/>
          </p:nvSpPr>
          <p:spPr>
            <a:xfrm>
              <a:off x="797040" y="246852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14"/>
          <p:cNvSpPr/>
          <p:nvPr/>
        </p:nvSpPr>
        <p:spPr>
          <a:xfrm>
            <a:off x="210960" y="4816440"/>
            <a:ext cx="13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ick #s for x and solve for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2432160" y="14954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th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417760" y="1990800"/>
            <a:ext cx="162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nd the x and y-ints and connect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4616280" y="1486080"/>
            <a:ext cx="13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tho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4640400" y="1927080"/>
            <a:ext cx="185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lve for y, then plot y-int and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9"/>
          <p:cNvSpPr/>
          <p:nvPr/>
        </p:nvSpPr>
        <p:spPr>
          <a:xfrm>
            <a:off x="291960" y="376200"/>
            <a:ext cx="467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lope of a li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0"/>
          <p:cNvSpPr/>
          <p:nvPr/>
        </p:nvSpPr>
        <p:spPr>
          <a:xfrm>
            <a:off x="3249720" y="249120"/>
            <a:ext cx="10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1"/>
          <p:cNvSpPr/>
          <p:nvPr/>
        </p:nvSpPr>
        <p:spPr>
          <a:xfrm>
            <a:off x="3147840" y="71280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2"/>
          <p:cNvSpPr/>
          <p:nvPr/>
        </p:nvSpPr>
        <p:spPr>
          <a:xfrm>
            <a:off x="3286080" y="736560"/>
            <a:ext cx="10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73"/>
              <p:cNvSpPr txBox="1"/>
              <p:nvPr/>
            </p:nvSpPr>
            <p:spPr>
              <a:xfrm>
                <a:off x="4392720" y="279360"/>
                <a:ext cx="188280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Rectangle 74"/>
          <p:cNvSpPr/>
          <p:nvPr/>
        </p:nvSpPr>
        <p:spPr>
          <a:xfrm>
            <a:off x="2911320" y="1611360"/>
            <a:ext cx="467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ypes of Slop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5"/>
          <p:cNvSpPr/>
          <p:nvPr/>
        </p:nvSpPr>
        <p:spPr>
          <a:xfrm>
            <a:off x="385920" y="2284560"/>
            <a:ext cx="164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6"/>
          <p:cNvSpPr/>
          <p:nvPr/>
        </p:nvSpPr>
        <p:spPr>
          <a:xfrm flipV="1">
            <a:off x="738360" y="2811600"/>
            <a:ext cx="637920" cy="97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7"/>
          <p:cNvSpPr/>
          <p:nvPr/>
        </p:nvSpPr>
        <p:spPr>
          <a:xfrm>
            <a:off x="2251080" y="2290680"/>
            <a:ext cx="1641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8"/>
          <p:cNvSpPr/>
          <p:nvPr/>
        </p:nvSpPr>
        <p:spPr>
          <a:xfrm flipH="1" flipV="1">
            <a:off x="2719080" y="2921040"/>
            <a:ext cx="755640" cy="100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9"/>
          <p:cNvSpPr/>
          <p:nvPr/>
        </p:nvSpPr>
        <p:spPr>
          <a:xfrm>
            <a:off x="4406760" y="2298600"/>
            <a:ext cx="1641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ze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0"/>
          <p:cNvSpPr/>
          <p:nvPr/>
        </p:nvSpPr>
        <p:spPr>
          <a:xfrm flipH="1">
            <a:off x="4308120" y="3278160"/>
            <a:ext cx="12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1"/>
          <p:cNvSpPr/>
          <p:nvPr/>
        </p:nvSpPr>
        <p:spPr>
          <a:xfrm>
            <a:off x="6473880" y="2333520"/>
            <a:ext cx="18730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undefin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2"/>
          <p:cNvSpPr/>
          <p:nvPr/>
        </p:nvSpPr>
        <p:spPr>
          <a:xfrm>
            <a:off x="7348680" y="2894040"/>
            <a:ext cx="12600" cy="855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3"/>
          <p:cNvSpPr/>
          <p:nvPr/>
        </p:nvSpPr>
        <p:spPr>
          <a:xfrm>
            <a:off x="268200" y="3913200"/>
            <a:ext cx="86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slope of the line passing through the po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750960" y="4575240"/>
            <a:ext cx="30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(-3, 4) and (2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5"/>
          <p:cNvSpPr/>
          <p:nvPr/>
        </p:nvSpPr>
        <p:spPr>
          <a:xfrm>
            <a:off x="925560" y="524844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6"/>
          <p:cNvSpPr/>
          <p:nvPr/>
        </p:nvSpPr>
        <p:spPr>
          <a:xfrm>
            <a:off x="851040" y="5738760"/>
            <a:ext cx="104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8"/>
          <p:cNvSpPr/>
          <p:nvPr/>
        </p:nvSpPr>
        <p:spPr>
          <a:xfrm>
            <a:off x="2070000" y="548640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9"/>
          <p:cNvSpPr/>
          <p:nvPr/>
        </p:nvSpPr>
        <p:spPr>
          <a:xfrm>
            <a:off x="2505240" y="51944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0"/>
          <p:cNvSpPr/>
          <p:nvPr/>
        </p:nvSpPr>
        <p:spPr>
          <a:xfrm>
            <a:off x="2408400" y="5730840"/>
            <a:ext cx="52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1"/>
          <p:cNvSpPr/>
          <p:nvPr/>
        </p:nvSpPr>
        <p:spPr>
          <a:xfrm>
            <a:off x="2435400" y="5778360"/>
            <a:ext cx="4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2"/>
          <p:cNvSpPr/>
          <p:nvPr/>
        </p:nvSpPr>
        <p:spPr>
          <a:xfrm>
            <a:off x="2349360" y="5199120"/>
            <a:ext cx="708120" cy="107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3"/>
          <p:cNvSpPr/>
          <p:nvPr/>
        </p:nvSpPr>
        <p:spPr>
          <a:xfrm>
            <a:off x="1225440" y="527832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4"/>
          <p:cNvSpPr/>
          <p:nvPr/>
        </p:nvSpPr>
        <p:spPr>
          <a:xfrm>
            <a:off x="1522440" y="526716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5"/>
          <p:cNvSpPr/>
          <p:nvPr/>
        </p:nvSpPr>
        <p:spPr>
          <a:xfrm>
            <a:off x="888840" y="579132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6"/>
          <p:cNvSpPr/>
          <p:nvPr/>
        </p:nvSpPr>
        <p:spPr>
          <a:xfrm>
            <a:off x="1189080" y="578016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7"/>
          <p:cNvSpPr/>
          <p:nvPr/>
        </p:nvSpPr>
        <p:spPr>
          <a:xfrm>
            <a:off x="1405080" y="5753160"/>
            <a:ext cx="7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4587840" y="4606920"/>
            <a:ext cx="30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(-2, 1) and (-2,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9"/>
          <p:cNvSpPr/>
          <p:nvPr/>
        </p:nvSpPr>
        <p:spPr>
          <a:xfrm>
            <a:off x="4762440" y="528012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0"/>
          <p:cNvSpPr/>
          <p:nvPr/>
        </p:nvSpPr>
        <p:spPr>
          <a:xfrm>
            <a:off x="4687920" y="5770440"/>
            <a:ext cx="104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1"/>
          <p:cNvSpPr/>
          <p:nvPr/>
        </p:nvSpPr>
        <p:spPr>
          <a:xfrm>
            <a:off x="5907240" y="551808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2"/>
          <p:cNvSpPr/>
          <p:nvPr/>
        </p:nvSpPr>
        <p:spPr>
          <a:xfrm>
            <a:off x="6342120" y="5226120"/>
            <a:ext cx="5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3"/>
          <p:cNvSpPr/>
          <p:nvPr/>
        </p:nvSpPr>
        <p:spPr>
          <a:xfrm>
            <a:off x="6245280" y="5762520"/>
            <a:ext cx="52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4"/>
          <p:cNvSpPr/>
          <p:nvPr/>
        </p:nvSpPr>
        <p:spPr>
          <a:xfrm>
            <a:off x="6272280" y="5810400"/>
            <a:ext cx="4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5"/>
          <p:cNvSpPr/>
          <p:nvPr/>
        </p:nvSpPr>
        <p:spPr>
          <a:xfrm>
            <a:off x="6858000" y="5472000"/>
            <a:ext cx="1676520" cy="5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6"/>
          <p:cNvSpPr/>
          <p:nvPr/>
        </p:nvSpPr>
        <p:spPr>
          <a:xfrm>
            <a:off x="5062680" y="5310360"/>
            <a:ext cx="3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7"/>
          <p:cNvSpPr/>
          <p:nvPr/>
        </p:nvSpPr>
        <p:spPr>
          <a:xfrm>
            <a:off x="5359320" y="529920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8"/>
          <p:cNvSpPr/>
          <p:nvPr/>
        </p:nvSpPr>
        <p:spPr>
          <a:xfrm>
            <a:off x="4726080" y="5823000"/>
            <a:ext cx="5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9"/>
          <p:cNvSpPr/>
          <p:nvPr/>
        </p:nvSpPr>
        <p:spPr>
          <a:xfrm>
            <a:off x="5025960" y="581184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0"/>
          <p:cNvSpPr/>
          <p:nvPr/>
        </p:nvSpPr>
        <p:spPr>
          <a:xfrm>
            <a:off x="5241960" y="5784840"/>
            <a:ext cx="7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1"/>
          <p:cNvSpPr/>
          <p:nvPr/>
        </p:nvSpPr>
        <p:spPr>
          <a:xfrm>
            <a:off x="6865920" y="5522760"/>
            <a:ext cx="22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4"/>
          <p:cNvSpPr/>
          <p:nvPr/>
        </p:nvSpPr>
        <p:spPr>
          <a:xfrm>
            <a:off x="244440" y="276120"/>
            <a:ext cx="88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the equation of the line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5"/>
          <p:cNvGraphicFramePr/>
          <p:nvPr/>
        </p:nvGraphicFramePr>
        <p:xfrm>
          <a:off x="4498920" y="828720"/>
          <a:ext cx="1505160" cy="4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8920" y="828720"/>
                    <a:ext cx="150516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4299120" y="1668600"/>
          <a:ext cx="568080" cy="36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99120" y="1668600"/>
                    <a:ext cx="5680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7"/>
          <p:cNvGraphicFramePr/>
          <p:nvPr/>
        </p:nvGraphicFramePr>
        <p:xfrm>
          <a:off x="4938840" y="1401840"/>
          <a:ext cx="339480" cy="87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8840" y="1401840"/>
                    <a:ext cx="33948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8"/>
          <p:cNvGraphicFramePr/>
          <p:nvPr/>
        </p:nvGraphicFramePr>
        <p:xfrm>
          <a:off x="5302080" y="1655640"/>
          <a:ext cx="284400" cy="312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02080" y="1655640"/>
                    <a:ext cx="28440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9"/>
          <p:cNvGraphicFramePr/>
          <p:nvPr/>
        </p:nvGraphicFramePr>
        <p:xfrm>
          <a:off x="5659560" y="1639800"/>
          <a:ext cx="453960" cy="370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59560" y="1639800"/>
                    <a:ext cx="45396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10"/>
          <p:cNvSpPr/>
          <p:nvPr/>
        </p:nvSpPr>
        <p:spPr>
          <a:xfrm>
            <a:off x="679680" y="86688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slope ½ and y-in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639000" y="256536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slope 2/3 and goes through (-3,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Object 12"/>
          <p:cNvGraphicFramePr/>
          <p:nvPr/>
        </p:nvGraphicFramePr>
        <p:xfrm>
          <a:off x="1719360" y="3119400"/>
          <a:ext cx="1504800" cy="453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19360" y="3119400"/>
                    <a:ext cx="150480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3"/>
          <p:cNvGraphicFramePr/>
          <p:nvPr/>
        </p:nvGraphicFramePr>
        <p:xfrm>
          <a:off x="1504800" y="3875040"/>
          <a:ext cx="482760" cy="36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4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04800" y="3875040"/>
                    <a:ext cx="4827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4"/>
          <p:cNvGraphicFramePr/>
          <p:nvPr/>
        </p:nvGraphicFramePr>
        <p:xfrm>
          <a:off x="2060640" y="3659040"/>
          <a:ext cx="339840" cy="87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6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060640" y="3659040"/>
                    <a:ext cx="33984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14"/>
          <p:cNvSpPr/>
          <p:nvPr/>
        </p:nvSpPr>
        <p:spPr>
          <a:xfrm>
            <a:off x="6138720" y="267480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eed to find 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16"/>
          <p:cNvGraphicFramePr/>
          <p:nvPr/>
        </p:nvGraphicFramePr>
        <p:xfrm>
          <a:off x="2325600" y="3794040"/>
          <a:ext cx="709560" cy="567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9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325600" y="3794040"/>
                    <a:ext cx="70956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17"/>
          <p:cNvGraphicFramePr/>
          <p:nvPr/>
        </p:nvGraphicFramePr>
        <p:xfrm>
          <a:off x="3084480" y="3865680"/>
          <a:ext cx="482760" cy="396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1" name="Object 1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084480" y="3865680"/>
                    <a:ext cx="48276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18"/>
          <p:cNvGraphicFramePr/>
          <p:nvPr/>
        </p:nvGraphicFramePr>
        <p:xfrm>
          <a:off x="1468440" y="4632480"/>
          <a:ext cx="482760" cy="36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3" name="Object 1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68440" y="4632480"/>
                    <a:ext cx="4827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19"/>
          <p:cNvGraphicFramePr/>
          <p:nvPr/>
        </p:nvGraphicFramePr>
        <p:xfrm>
          <a:off x="2027160" y="4637160"/>
          <a:ext cx="453960" cy="36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5" name="Object 1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027160" y="4637160"/>
                    <a:ext cx="4539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20"/>
          <p:cNvGraphicFramePr/>
          <p:nvPr/>
        </p:nvGraphicFramePr>
        <p:xfrm>
          <a:off x="2496960" y="4621320"/>
          <a:ext cx="482760" cy="3967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67" name="Object 2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496960" y="4621320"/>
                    <a:ext cx="48276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21"/>
          <p:cNvGraphicFramePr/>
          <p:nvPr/>
        </p:nvGraphicFramePr>
        <p:xfrm>
          <a:off x="1386000" y="5189400"/>
          <a:ext cx="538200" cy="397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69" name="Object 2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386000" y="5189400"/>
                    <a:ext cx="53820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22"/>
          <p:cNvGraphicFramePr/>
          <p:nvPr/>
        </p:nvGraphicFramePr>
        <p:xfrm>
          <a:off x="2049480" y="5178600"/>
          <a:ext cx="255600" cy="3967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71" name="Object 22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049480" y="5178600"/>
                    <a:ext cx="2556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23"/>
          <p:cNvSpPr/>
          <p:nvPr/>
        </p:nvSpPr>
        <p:spPr>
          <a:xfrm>
            <a:off x="4262400" y="1371600"/>
            <a:ext cx="1865520" cy="90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24"/>
          <p:cNvGraphicFramePr/>
          <p:nvPr/>
        </p:nvGraphicFramePr>
        <p:xfrm>
          <a:off x="4519440" y="4092480"/>
          <a:ext cx="568440" cy="3700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74" name="Object 24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519440" y="4092480"/>
                    <a:ext cx="56844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25"/>
          <p:cNvGraphicFramePr/>
          <p:nvPr/>
        </p:nvGraphicFramePr>
        <p:xfrm>
          <a:off x="5159520" y="3825720"/>
          <a:ext cx="339480" cy="8794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76" name="Object 25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159520" y="3825720"/>
                    <a:ext cx="33948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26"/>
          <p:cNvGraphicFramePr/>
          <p:nvPr/>
        </p:nvGraphicFramePr>
        <p:xfrm>
          <a:off x="5522760" y="4079880"/>
          <a:ext cx="284400" cy="312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8" name="Object 2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522760" y="4079880"/>
                    <a:ext cx="28440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27"/>
          <p:cNvGraphicFramePr/>
          <p:nvPr/>
        </p:nvGraphicFramePr>
        <p:xfrm>
          <a:off x="5880240" y="4049640"/>
          <a:ext cx="45396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80" name="Object 27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5880240" y="4049640"/>
                    <a:ext cx="45396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28"/>
          <p:cNvSpPr/>
          <p:nvPr/>
        </p:nvSpPr>
        <p:spPr>
          <a:xfrm>
            <a:off x="4483080" y="3795840"/>
            <a:ext cx="1865160" cy="90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243000" y="320760"/>
            <a:ext cx="47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oes through (-2, 1) and (-1,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5721480" y="430200"/>
            <a:ext cx="34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eed to find m first, then 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750960" y="102564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76440" y="1515960"/>
            <a:ext cx="104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1895400" y="126360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2330280" y="971640"/>
            <a:ext cx="3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2233440" y="1508040"/>
            <a:ext cx="524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2354400" y="1555920"/>
            <a:ext cx="4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1050840" y="105552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1347840" y="104472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714240" y="15685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1014480" y="155736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1230480" y="1530360"/>
            <a:ext cx="7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2814480" y="129528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9"/>
          <p:cNvSpPr/>
          <p:nvPr/>
        </p:nvSpPr>
        <p:spPr>
          <a:xfrm>
            <a:off x="3156120" y="131292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20"/>
          <p:cNvGraphicFramePr/>
          <p:nvPr/>
        </p:nvGraphicFramePr>
        <p:xfrm>
          <a:off x="4019400" y="995400"/>
          <a:ext cx="1505160" cy="4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9400" y="995400"/>
                    <a:ext cx="150516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21"/>
          <p:cNvGraphicFramePr/>
          <p:nvPr/>
        </p:nvGraphicFramePr>
        <p:xfrm>
          <a:off x="3844800" y="1563840"/>
          <a:ext cx="48276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44800" y="1563840"/>
                    <a:ext cx="4827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22"/>
          <p:cNvGraphicFramePr/>
          <p:nvPr/>
        </p:nvGraphicFramePr>
        <p:xfrm>
          <a:off x="4441680" y="1587600"/>
          <a:ext cx="255600" cy="39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41680" y="1587600"/>
                    <a:ext cx="2556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23"/>
          <p:cNvGraphicFramePr/>
          <p:nvPr/>
        </p:nvGraphicFramePr>
        <p:xfrm>
          <a:off x="4665600" y="1482840"/>
          <a:ext cx="709560" cy="56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4" name="Object 2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65600" y="1482840"/>
                    <a:ext cx="7095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24"/>
          <p:cNvGraphicFramePr/>
          <p:nvPr/>
        </p:nvGraphicFramePr>
        <p:xfrm>
          <a:off x="5424480" y="1554120"/>
          <a:ext cx="482760" cy="397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6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24480" y="1554120"/>
                    <a:ext cx="48276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25"/>
          <p:cNvGraphicFramePr/>
          <p:nvPr/>
        </p:nvGraphicFramePr>
        <p:xfrm>
          <a:off x="3822840" y="2038320"/>
          <a:ext cx="482400" cy="36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8" name="Object 2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22840" y="2038320"/>
                    <a:ext cx="4824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26"/>
          <p:cNvGraphicFramePr/>
          <p:nvPr/>
        </p:nvGraphicFramePr>
        <p:xfrm>
          <a:off x="4381560" y="2028960"/>
          <a:ext cx="453960" cy="396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0" name="Object 2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81560" y="2028960"/>
                    <a:ext cx="45396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27"/>
          <p:cNvGraphicFramePr/>
          <p:nvPr/>
        </p:nvGraphicFramePr>
        <p:xfrm>
          <a:off x="4851360" y="2027160"/>
          <a:ext cx="482760" cy="397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2" name="Object 2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51360" y="2027160"/>
                    <a:ext cx="48276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28"/>
          <p:cNvGraphicFramePr/>
          <p:nvPr/>
        </p:nvGraphicFramePr>
        <p:xfrm>
          <a:off x="3753000" y="2554200"/>
          <a:ext cx="537840" cy="397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4" name="Object 2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53000" y="2554200"/>
                    <a:ext cx="53784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29"/>
          <p:cNvGraphicFramePr/>
          <p:nvPr/>
        </p:nvGraphicFramePr>
        <p:xfrm>
          <a:off x="4402080" y="2543040"/>
          <a:ext cx="284400" cy="397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6" name="Object 2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402080" y="2543040"/>
                    <a:ext cx="28440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14"/>
          <p:cNvSpPr/>
          <p:nvPr/>
        </p:nvSpPr>
        <p:spPr>
          <a:xfrm>
            <a:off x="6491160" y="102564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Use either poi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31"/>
          <p:cNvGraphicFramePr/>
          <p:nvPr/>
        </p:nvGraphicFramePr>
        <p:xfrm>
          <a:off x="6308640" y="2249640"/>
          <a:ext cx="568440" cy="369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19" name="Object 3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08640" y="2249640"/>
                    <a:ext cx="56844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32"/>
          <p:cNvGraphicFramePr/>
          <p:nvPr/>
        </p:nvGraphicFramePr>
        <p:xfrm>
          <a:off x="6991200" y="2222640"/>
          <a:ext cx="254160" cy="39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1" name="Object 3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991200" y="2222640"/>
                    <a:ext cx="254160" cy="39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33"/>
          <p:cNvGraphicFramePr/>
          <p:nvPr/>
        </p:nvGraphicFramePr>
        <p:xfrm>
          <a:off x="7311960" y="2236680"/>
          <a:ext cx="284400" cy="312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3" name="Object 3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311960" y="2236680"/>
                    <a:ext cx="28440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34"/>
          <p:cNvGraphicFramePr/>
          <p:nvPr/>
        </p:nvGraphicFramePr>
        <p:xfrm>
          <a:off x="7628040" y="2206800"/>
          <a:ext cx="453960" cy="398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25" name="Object 34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628040" y="2206800"/>
                    <a:ext cx="453960" cy="39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35"/>
          <p:cNvSpPr/>
          <p:nvPr/>
        </p:nvSpPr>
        <p:spPr>
          <a:xfrm>
            <a:off x="6272280" y="1952640"/>
            <a:ext cx="1865160" cy="90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244440" y="3328920"/>
            <a:ext cx="88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the equation                   in the form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37"/>
          <p:cNvGraphicFramePr/>
          <p:nvPr/>
        </p:nvGraphicFramePr>
        <p:xfrm>
          <a:off x="3968640" y="3127320"/>
          <a:ext cx="1533600" cy="8794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29" name="Object 3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968640" y="3127320"/>
                    <a:ext cx="15336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38"/>
          <p:cNvGraphicFramePr/>
          <p:nvPr/>
        </p:nvGraphicFramePr>
        <p:xfrm>
          <a:off x="7385040" y="3327480"/>
          <a:ext cx="1758960" cy="4539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31" name="Object 3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385040" y="3327480"/>
                    <a:ext cx="175896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14"/>
          <p:cNvSpPr/>
          <p:nvPr/>
        </p:nvSpPr>
        <p:spPr>
          <a:xfrm>
            <a:off x="7277040" y="385596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tandar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40"/>
          <p:cNvGraphicFramePr/>
          <p:nvPr/>
        </p:nvGraphicFramePr>
        <p:xfrm>
          <a:off x="3859200" y="4006800"/>
          <a:ext cx="1789200" cy="8794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34" name="Object 4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859200" y="4006800"/>
                    <a:ext cx="17892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Rectangle 14"/>
          <p:cNvSpPr/>
          <p:nvPr/>
        </p:nvSpPr>
        <p:spPr>
          <a:xfrm>
            <a:off x="7105680" y="4249800"/>
            <a:ext cx="20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o fractions and A must be p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Object 42"/>
          <p:cNvGraphicFramePr/>
          <p:nvPr/>
        </p:nvGraphicFramePr>
        <p:xfrm>
          <a:off x="3794040" y="5151600"/>
          <a:ext cx="1817640" cy="4539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37" name="Object 4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794040" y="5151600"/>
                    <a:ext cx="181764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Rectangle 43"/>
          <p:cNvSpPr/>
          <p:nvPr/>
        </p:nvSpPr>
        <p:spPr>
          <a:xfrm>
            <a:off x="3762360" y="4970520"/>
            <a:ext cx="1865160" cy="73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622"/>
          <p:cNvSpPr/>
          <p:nvPr/>
        </p:nvSpPr>
        <p:spPr>
          <a:xfrm>
            <a:off x="192240" y="1797120"/>
            <a:ext cx="3342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pg. 48-49, #1-4, 6-54 (mult. of 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42"/>
          <p:cNvSpPr/>
          <p:nvPr/>
        </p:nvSpPr>
        <p:spPr>
          <a:xfrm>
            <a:off x="263520" y="185760"/>
            <a:ext cx="787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the equation of the line through (-5, -2) and (5, -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43"/>
          <p:cNvSpPr/>
          <p:nvPr/>
        </p:nvSpPr>
        <p:spPr>
          <a:xfrm>
            <a:off x="0" y="984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the easiest (or hardest) part of this lesson is ___ becaus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52"/>
          <p:cNvSpPr/>
          <p:nvPr/>
        </p:nvSpPr>
        <p:spPr>
          <a:xfrm>
            <a:off x="210960" y="3697200"/>
            <a:ext cx="326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comic"/>
              </a:rPr>
              <a:t>Quiz tomorrow on 2.1-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5" descr="toontest"/>
          <p:cNvPicPr/>
          <p:nvPr/>
        </p:nvPicPr>
        <p:blipFill>
          <a:blip r:embed="rId1"/>
          <a:stretch/>
        </p:blipFill>
        <p:spPr>
          <a:xfrm>
            <a:off x="3591000" y="1790640"/>
            <a:ext cx="5553000" cy="47275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652"/>
          <p:cNvSpPr/>
          <p:nvPr/>
        </p:nvSpPr>
        <p:spPr>
          <a:xfrm>
            <a:off x="304920" y="536724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2-04T18:24:29Z</dcterms:modified>
  <cp:revision>327</cp:revision>
  <dc:subject/>
  <dc:title>1.6 Solving Absolute Value Equations and  Inequalities</dc:title>
</cp:coreProperties>
</file>