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2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png" ContentType="image/png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4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EFF-DA37-457C-8D36-F2D61EDE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BF7-802C-4323-8E18-05347E72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2FC-6368-4E84-88EA-F99774E6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659-6D50-429C-ABA8-3CCA367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DCD-2BD3-4F2A-805B-237C799F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5AE-2D7D-459C-9097-DA0B1835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3B4-ACDF-42BE-B174-4671383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138-5DBD-4613-8673-70A5CCB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E0E-89C2-4C0D-82F5-53A042C1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398-715A-4BA2-B67B-A7713EB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8CB-BC6F-400B-8E8D-EEBB7022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7A5-91A6-4B0C-A336-572CD31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A60-91C8-416B-AA15-90B150A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B3A-1AA1-4366-902A-1D5F420F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5B80-ED9C-47A6-B5CC-294B341E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43668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.3 Cost, Profit and Revenu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83816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see how linear and quadratic functions are useful in the business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07880" y="27097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374760" y="3359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what you know about these te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st, demand, revenue, and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22"/>
          <p:cNvSpPr/>
          <p:nvPr/>
        </p:nvSpPr>
        <p:spPr>
          <a:xfrm>
            <a:off x="206280" y="198432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43"/>
          <p:cNvSpPr/>
          <p:nvPr/>
        </p:nvSpPr>
        <p:spPr>
          <a:xfrm>
            <a:off x="0" y="863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5"/>
          <p:cNvSpPr/>
          <p:nvPr/>
        </p:nvSpPr>
        <p:spPr>
          <a:xfrm>
            <a:off x="1920960" y="8413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6"/>
          <p:cNvSpPr/>
          <p:nvPr/>
        </p:nvSpPr>
        <p:spPr>
          <a:xfrm>
            <a:off x="4375080" y="863640"/>
            <a:ext cx="42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nue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496880" y="2316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g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0"/>
          <p:cNvSpPr/>
          <p:nvPr/>
        </p:nvSpPr>
        <p:spPr>
          <a:xfrm>
            <a:off x="571680" y="18590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  C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1"/>
          <p:cNvSpPr/>
          <p:nvPr/>
        </p:nvSpPr>
        <p:spPr>
          <a:xfrm>
            <a:off x="2684520" y="184788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0"/>
          <p:cNvSpPr/>
          <p:nvPr/>
        </p:nvSpPr>
        <p:spPr>
          <a:xfrm>
            <a:off x="2649600" y="2322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prof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1"/>
          <p:cNvSpPr/>
          <p:nvPr/>
        </p:nvSpPr>
        <p:spPr>
          <a:xfrm>
            <a:off x="1528920" y="28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&lt;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2"/>
          <p:cNvSpPr/>
          <p:nvPr/>
        </p:nvSpPr>
        <p:spPr>
          <a:xfrm>
            <a:off x="2722680" y="283860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3"/>
          <p:cNvSpPr/>
          <p:nvPr/>
        </p:nvSpPr>
        <p:spPr>
          <a:xfrm>
            <a:off x="592200" y="35733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ypes of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4"/>
          <p:cNvSpPr/>
          <p:nvPr/>
        </p:nvSpPr>
        <p:spPr>
          <a:xfrm>
            <a:off x="1049400" y="409896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5"/>
          <p:cNvSpPr/>
          <p:nvPr/>
        </p:nvSpPr>
        <p:spPr>
          <a:xfrm>
            <a:off x="2473200" y="40845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t, insuran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6"/>
          <p:cNvSpPr/>
          <p:nvPr/>
        </p:nvSpPr>
        <p:spPr>
          <a:xfrm>
            <a:off x="1079640" y="4681440"/>
            <a:ext cx="22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7"/>
          <p:cNvSpPr/>
          <p:nvPr/>
        </p:nvSpPr>
        <p:spPr>
          <a:xfrm>
            <a:off x="2935440" y="462744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, wag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8"/>
          <p:cNvSpPr/>
          <p:nvPr/>
        </p:nvSpPr>
        <p:spPr>
          <a:xfrm>
            <a:off x="3594240" y="5138640"/>
            <a:ext cx="53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t on # of items made or hours work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4"/>
          <p:cNvSpPr/>
          <p:nvPr/>
        </p:nvSpPr>
        <p:spPr>
          <a:xfrm>
            <a:off x="244440" y="2761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s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4"/>
          <p:cNvSpPr/>
          <p:nvPr/>
        </p:nvSpPr>
        <p:spPr>
          <a:xfrm>
            <a:off x="2668680" y="217440"/>
            <a:ext cx="56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fixed costs + var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76"/>
          <p:cNvGraphicFramePr/>
          <p:nvPr/>
        </p:nvGraphicFramePr>
        <p:xfrm>
          <a:off x="2479680" y="709560"/>
          <a:ext cx="92880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09560"/>
                    <a:ext cx="9288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77"/>
          <p:cNvGraphicFramePr/>
          <p:nvPr/>
        </p:nvGraphicFramePr>
        <p:xfrm>
          <a:off x="3276720" y="765000"/>
          <a:ext cx="42516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765000"/>
                    <a:ext cx="425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78"/>
          <p:cNvGraphicFramePr/>
          <p:nvPr/>
        </p:nvGraphicFramePr>
        <p:xfrm>
          <a:off x="3630600" y="689040"/>
          <a:ext cx="9367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0600" y="689040"/>
                    <a:ext cx="936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4"/>
          <p:cNvSpPr/>
          <p:nvPr/>
        </p:nvSpPr>
        <p:spPr>
          <a:xfrm>
            <a:off x="236520" y="120816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ce-Demand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0"/>
          <p:cNvSpPr/>
          <p:nvPr/>
        </p:nvSpPr>
        <p:spPr>
          <a:xfrm>
            <a:off x="5064120" y="7491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81"/>
          <p:cNvGraphicFramePr/>
          <p:nvPr/>
        </p:nvGraphicFramePr>
        <p:xfrm>
          <a:off x="2397240" y="1754280"/>
          <a:ext cx="88740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8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175428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82"/>
          <p:cNvGraphicFramePr/>
          <p:nvPr/>
        </p:nvGraphicFramePr>
        <p:xfrm>
          <a:off x="3273480" y="1812960"/>
          <a:ext cx="1477800" cy="38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Object 18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3480" y="1812960"/>
                    <a:ext cx="14778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183"/>
          <p:cNvSpPr/>
          <p:nvPr/>
        </p:nvSpPr>
        <p:spPr>
          <a:xfrm>
            <a:off x="5035680" y="1471680"/>
            <a:ext cx="41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and n are constants (depending on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4"/>
          <p:cNvSpPr/>
          <p:nvPr/>
        </p:nvSpPr>
        <p:spPr>
          <a:xfrm>
            <a:off x="2635200" y="2367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5"/>
          <p:cNvSpPr/>
          <p:nvPr/>
        </p:nvSpPr>
        <p:spPr>
          <a:xfrm>
            <a:off x="5035680" y="2416320"/>
            <a:ext cx="41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the # of items that can be sold at $p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95200" y="33512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venue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87"/>
          <p:cNvGraphicFramePr/>
          <p:nvPr/>
        </p:nvGraphicFramePr>
        <p:xfrm>
          <a:off x="2117880" y="3951360"/>
          <a:ext cx="88740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Object 18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17880" y="3951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8"/>
          <p:cNvGraphicFramePr/>
          <p:nvPr/>
        </p:nvGraphicFramePr>
        <p:xfrm>
          <a:off x="2930400" y="3957480"/>
          <a:ext cx="717840" cy="49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Object 18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30400" y="3957480"/>
                    <a:ext cx="7178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89"/>
          <p:cNvSpPr/>
          <p:nvPr/>
        </p:nvSpPr>
        <p:spPr>
          <a:xfrm>
            <a:off x="3790800" y="3992400"/>
            <a:ext cx="6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90"/>
          <p:cNvGraphicFramePr/>
          <p:nvPr/>
        </p:nvGraphicFramePr>
        <p:xfrm>
          <a:off x="4449600" y="3983040"/>
          <a:ext cx="88740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Object 19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49600" y="39830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1"/>
          <p:cNvGraphicFramePr/>
          <p:nvPr/>
        </p:nvGraphicFramePr>
        <p:xfrm>
          <a:off x="5243400" y="3898800"/>
          <a:ext cx="21528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Object 19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43400" y="389880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4"/>
          <p:cNvSpPr/>
          <p:nvPr/>
        </p:nvSpPr>
        <p:spPr>
          <a:xfrm>
            <a:off x="271440" y="45925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fi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3"/>
          <p:cNvSpPr/>
          <p:nvPr/>
        </p:nvSpPr>
        <p:spPr>
          <a:xfrm>
            <a:off x="3224160" y="3362400"/>
            <a:ext cx="47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items sold*price per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94"/>
          <p:cNvGraphicFramePr/>
          <p:nvPr/>
        </p:nvGraphicFramePr>
        <p:xfrm>
          <a:off x="2901960" y="45878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Object 19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01960" y="45878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95"/>
          <p:cNvGraphicFramePr/>
          <p:nvPr/>
        </p:nvGraphicFramePr>
        <p:xfrm>
          <a:off x="3726000" y="4583160"/>
          <a:ext cx="1309680" cy="49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Object 19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26000" y="4583160"/>
                    <a:ext cx="13096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196"/>
          <p:cNvSpPr/>
          <p:nvPr/>
        </p:nvSpPr>
        <p:spPr>
          <a:xfrm>
            <a:off x="1792440" y="515448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7"/>
          <p:cNvSpPr/>
          <p:nvPr/>
        </p:nvSpPr>
        <p:spPr>
          <a:xfrm>
            <a:off x="7494480" y="3932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98"/>
          <p:cNvGraphicFramePr/>
          <p:nvPr/>
        </p:nvGraphicFramePr>
        <p:xfrm>
          <a:off x="2892600" y="5130720"/>
          <a:ext cx="887400" cy="455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Object 19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92600" y="51307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99"/>
          <p:cNvGraphicFramePr/>
          <p:nvPr/>
        </p:nvGraphicFramePr>
        <p:xfrm>
          <a:off x="3728880" y="4992840"/>
          <a:ext cx="2152800" cy="69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Object 19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28880" y="499284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00"/>
          <p:cNvGraphicFramePr/>
          <p:nvPr/>
        </p:nvGraphicFramePr>
        <p:xfrm>
          <a:off x="5925960" y="5221440"/>
          <a:ext cx="422280" cy="279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0" name="Object 20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25960" y="522144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01"/>
          <p:cNvGraphicFramePr/>
          <p:nvPr/>
        </p:nvGraphicFramePr>
        <p:xfrm>
          <a:off x="6243480" y="4994280"/>
          <a:ext cx="1731960" cy="70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" name="Object 20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43480" y="499428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02"/>
          <p:cNvSpPr/>
          <p:nvPr/>
        </p:nvSpPr>
        <p:spPr>
          <a:xfrm>
            <a:off x="7391520" y="55497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2"/>
          <p:cNvSpPr/>
          <p:nvPr/>
        </p:nvSpPr>
        <p:spPr>
          <a:xfrm>
            <a:off x="195120" y="343080"/>
            <a:ext cx="89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ice-Demand data from a manufacturer of camer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8" descr=""/>
          <p:cNvPicPr/>
          <p:nvPr/>
        </p:nvPicPr>
        <p:blipFill>
          <a:blip r:embed="rId1"/>
          <a:stretch/>
        </p:blipFill>
        <p:spPr>
          <a:xfrm>
            <a:off x="1149480" y="858960"/>
            <a:ext cx="1438200" cy="1619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5"/>
          <p:cNvSpPr/>
          <p:nvPr/>
        </p:nvSpPr>
        <p:spPr>
          <a:xfrm>
            <a:off x="2996640" y="90000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- Wholesale price 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3046680" y="12794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- millions of cameras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2772000" y="171756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note as price goes down, # sold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369720" y="276372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) Plot the data in the table and find the price-demand function.  What is the dom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0" descr=""/>
          <p:cNvPicPr/>
          <p:nvPr/>
        </p:nvPicPr>
        <p:blipFill>
          <a:blip r:embed="rId2"/>
          <a:stretch/>
        </p:blipFill>
        <p:spPr>
          <a:xfrm>
            <a:off x="577800" y="3490920"/>
            <a:ext cx="1800360" cy="17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1" descr=""/>
          <p:cNvPicPr/>
          <p:nvPr/>
        </p:nvPicPr>
        <p:blipFill>
          <a:blip r:embed="rId3"/>
          <a:stretch/>
        </p:blipFill>
        <p:spPr>
          <a:xfrm>
            <a:off x="2641680" y="3490920"/>
            <a:ext cx="181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2" descr=""/>
          <p:cNvPicPr/>
          <p:nvPr/>
        </p:nvPicPr>
        <p:blipFill>
          <a:blip r:embed="rId4"/>
          <a:stretch/>
        </p:blipFill>
        <p:spPr>
          <a:xfrm>
            <a:off x="4694400" y="3313080"/>
            <a:ext cx="1895400" cy="192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3" descr=""/>
          <p:cNvPicPr/>
          <p:nvPr/>
        </p:nvPicPr>
        <p:blipFill>
          <a:blip r:embed="rId5"/>
          <a:stretch/>
        </p:blipFill>
        <p:spPr>
          <a:xfrm>
            <a:off x="6838920" y="3384720"/>
            <a:ext cx="186696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134"/>
          <p:cNvGraphicFramePr/>
          <p:nvPr/>
        </p:nvGraphicFramePr>
        <p:xfrm>
          <a:off x="674640" y="5479920"/>
          <a:ext cx="887400" cy="45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Object 1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4640" y="54799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35"/>
          <p:cNvGraphicFramePr/>
          <p:nvPr/>
        </p:nvGraphicFramePr>
        <p:xfrm>
          <a:off x="1550880" y="5538960"/>
          <a:ext cx="1478160" cy="38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50880" y="5538960"/>
                    <a:ext cx="14781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36"/>
          <p:cNvGraphicFramePr/>
          <p:nvPr/>
        </p:nvGraphicFramePr>
        <p:xfrm>
          <a:off x="3676680" y="5591160"/>
          <a:ext cx="2943360" cy="56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Object 13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76680" y="5591160"/>
                    <a:ext cx="2943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0"/>
          <p:cNvSpPr/>
          <p:nvPr/>
        </p:nvSpPr>
        <p:spPr>
          <a:xfrm>
            <a:off x="3581280" y="5613480"/>
            <a:ext cx="317520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37"/>
          <p:cNvGraphicFramePr/>
          <p:nvPr/>
        </p:nvGraphicFramePr>
        <p:xfrm>
          <a:off x="4013280" y="6227640"/>
          <a:ext cx="807840" cy="47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Object 1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3280" y="622764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8"/>
          <p:cNvGraphicFramePr/>
          <p:nvPr/>
        </p:nvGraphicFramePr>
        <p:xfrm>
          <a:off x="4821120" y="6184800"/>
          <a:ext cx="1835280" cy="514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" name="Object 13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21120" y="6184800"/>
                    <a:ext cx="183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3"/>
          <p:cNvSpPr/>
          <p:nvPr/>
        </p:nvSpPr>
        <p:spPr>
          <a:xfrm>
            <a:off x="3733920" y="6130800"/>
            <a:ext cx="317484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62080" y="216000"/>
            <a:ext cx="86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) What is the company's Revenue function for this camera?  What is the domain of th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639720" y="120168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20168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1433520" y="1117440"/>
          <a:ext cx="215280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1117440"/>
                    <a:ext cx="21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1490760" y="1895400"/>
          <a:ext cx="3664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0760" y="189540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1795320" y="1717560"/>
          <a:ext cx="24717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5320" y="1717560"/>
                    <a:ext cx="2471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652320" y="1773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" y="1773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8"/>
          <p:cNvSpPr/>
          <p:nvPr/>
        </p:nvSpPr>
        <p:spPr>
          <a:xfrm>
            <a:off x="596880" y="1701720"/>
            <a:ext cx="3733920" cy="5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5016600" y="1401840"/>
          <a:ext cx="8078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6600" y="1401840"/>
                    <a:ext cx="807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9"/>
          <p:cNvGraphicFramePr/>
          <p:nvPr/>
        </p:nvGraphicFramePr>
        <p:xfrm>
          <a:off x="5824440" y="1359000"/>
          <a:ext cx="1835280" cy="51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4440" y="1359000"/>
                    <a:ext cx="18352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4737240" y="130500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291960" y="253368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Complete the table, computing revenues to the nearest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4"/>
          <p:cNvSpPr/>
          <p:nvPr/>
        </p:nvSpPr>
        <p:spPr>
          <a:xfrm>
            <a:off x="3429000" y="332748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6"/>
          <p:cNvSpPr/>
          <p:nvPr/>
        </p:nvSpPr>
        <p:spPr>
          <a:xfrm>
            <a:off x="2489040" y="3746520"/>
            <a:ext cx="18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"/>
          <p:cNvGraphicFramePr/>
          <p:nvPr/>
        </p:nvGraphicFramePr>
        <p:xfrm>
          <a:off x="2532240" y="3292560"/>
          <a:ext cx="36648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32240" y="32925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20"/>
          <p:cNvSpPr/>
          <p:nvPr/>
        </p:nvSpPr>
        <p:spPr>
          <a:xfrm>
            <a:off x="2806560" y="327024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1"/>
          <p:cNvGraphicFramePr/>
          <p:nvPr/>
        </p:nvGraphicFramePr>
        <p:xfrm>
          <a:off x="3468600" y="3187800"/>
          <a:ext cx="1087560" cy="62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8600" y="3187800"/>
                    <a:ext cx="1087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22"/>
          <p:cNvSpPr/>
          <p:nvPr/>
        </p:nvSpPr>
        <p:spPr>
          <a:xfrm>
            <a:off x="4495680" y="316872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 millions of $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9"/>
          <p:cNvSpPr/>
          <p:nvPr/>
        </p:nvSpPr>
        <p:spPr>
          <a:xfrm>
            <a:off x="2817720" y="380196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9"/>
          <p:cNvSpPr/>
          <p:nvPr/>
        </p:nvSpPr>
        <p:spPr>
          <a:xfrm>
            <a:off x="2805120" y="415764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9"/>
          <p:cNvSpPr/>
          <p:nvPr/>
        </p:nvSpPr>
        <p:spPr>
          <a:xfrm>
            <a:off x="2855880" y="45385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9"/>
          <p:cNvSpPr/>
          <p:nvPr/>
        </p:nvSpPr>
        <p:spPr>
          <a:xfrm>
            <a:off x="2843280" y="4957920"/>
            <a:ext cx="4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9"/>
          <p:cNvSpPr/>
          <p:nvPr/>
        </p:nvSpPr>
        <p:spPr>
          <a:xfrm>
            <a:off x="2754360" y="532620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9"/>
          <p:cNvSpPr/>
          <p:nvPr/>
        </p:nvSpPr>
        <p:spPr>
          <a:xfrm>
            <a:off x="2817720" y="5745240"/>
            <a:ext cx="6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9"/>
          <p:cNvSpPr/>
          <p:nvPr/>
        </p:nvSpPr>
        <p:spPr>
          <a:xfrm>
            <a:off x="3554280" y="37767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9.7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3554280" y="415764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39.6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9"/>
          <p:cNvSpPr/>
          <p:nvPr/>
        </p:nvSpPr>
        <p:spPr>
          <a:xfrm>
            <a:off x="3529080" y="457668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9.9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9"/>
          <p:cNvSpPr/>
          <p:nvPr/>
        </p:nvSpPr>
        <p:spPr>
          <a:xfrm>
            <a:off x="3516480" y="495792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50.9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9"/>
          <p:cNvSpPr/>
          <p:nvPr/>
        </p:nvSpPr>
        <p:spPr>
          <a:xfrm>
            <a:off x="3516480" y="531324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22.7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9"/>
          <p:cNvSpPr/>
          <p:nvPr/>
        </p:nvSpPr>
        <p:spPr>
          <a:xfrm>
            <a:off x="3516480" y="573264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5.2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216000" y="22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)  Graph the revenue function and change the window appropriately.  Sketch the function below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kind of graph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3"/>
          <p:cNvCxnSpPr/>
          <p:nvPr/>
        </p:nvCxnSpPr>
        <p:spPr>
          <a:xfrm>
            <a:off x="1586520" y="1688760"/>
            <a:ext cx="13320" cy="293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Straight Arrow Connector 4"/>
          <p:cNvCxnSpPr/>
          <p:nvPr/>
        </p:nvCxnSpPr>
        <p:spPr>
          <a:xfrm flipH="1" flipV="1">
            <a:off x="1358280" y="4406040"/>
            <a:ext cx="3137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Rectangle 5"/>
          <p:cNvSpPr/>
          <p:nvPr/>
        </p:nvSpPr>
        <p:spPr>
          <a:xfrm>
            <a:off x="320760" y="4835520"/>
            <a:ext cx="85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)  What is the max revenue to the nearest $1,000? For what output of cameras (nearest thousan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9"/>
          <p:cNvSpPr/>
          <p:nvPr/>
        </p:nvSpPr>
        <p:spPr>
          <a:xfrm>
            <a:off x="1141560" y="573264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=9.5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9"/>
          <p:cNvSpPr/>
          <p:nvPr/>
        </p:nvSpPr>
        <p:spPr>
          <a:xfrm>
            <a:off x="1171440" y="616896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,550,000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9"/>
          <p:cNvSpPr/>
          <p:nvPr/>
        </p:nvSpPr>
        <p:spPr>
          <a:xfrm>
            <a:off x="4437000" y="573876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452.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9"/>
          <p:cNvSpPr/>
          <p:nvPr/>
        </p:nvSpPr>
        <p:spPr>
          <a:xfrm>
            <a:off x="4484520" y="618660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452,500,000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066680" y="6118200"/>
            <a:ext cx="712476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74600" y="263520"/>
            <a:ext cx="86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)  What is the wholesale price per camera to nearest dollar to produce the max re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36"/>
          <p:cNvGraphicFramePr/>
          <p:nvPr/>
        </p:nvGraphicFramePr>
        <p:xfrm>
          <a:off x="1746360" y="11844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1844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revenue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776240" y="1819440"/>
          <a:ext cx="28591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1819440"/>
                    <a:ext cx="2859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227320" y="2374920"/>
          <a:ext cx="159048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2374920"/>
                    <a:ext cx="1590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3745080" y="24112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171880" y="2320920"/>
            <a:ext cx="31748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91960" y="316872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)  Given the cost data below, find the cost function for manufacturing the ca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7"/>
          <a:stretch/>
        </p:blipFill>
        <p:spPr>
          <a:xfrm>
            <a:off x="1082520" y="4167360"/>
            <a:ext cx="1810080" cy="19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3"/>
          <p:cNvGraphicFramePr/>
          <p:nvPr/>
        </p:nvGraphicFramePr>
        <p:xfrm>
          <a:off x="4089240" y="4051440"/>
          <a:ext cx="269424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9240" y="4051440"/>
                    <a:ext cx="2694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9"/>
          <p:cNvGraphicFramePr/>
          <p:nvPr/>
        </p:nvGraphicFramePr>
        <p:xfrm>
          <a:off x="3522600" y="4724280"/>
          <a:ext cx="390528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2600" y="4724280"/>
                    <a:ext cx="390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4"/>
          <p:cNvSpPr/>
          <p:nvPr/>
        </p:nvSpPr>
        <p:spPr>
          <a:xfrm>
            <a:off x="3416400" y="4695840"/>
            <a:ext cx="4076640" cy="5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190440" y="2728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)  Find the company's profit function. Graph and find the max profit an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98"/>
          <p:cNvGraphicFramePr/>
          <p:nvPr/>
        </p:nvGraphicFramePr>
        <p:xfrm>
          <a:off x="1635120" y="1333440"/>
          <a:ext cx="8874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333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99"/>
          <p:cNvGraphicFramePr/>
          <p:nvPr/>
        </p:nvGraphicFramePr>
        <p:xfrm>
          <a:off x="2471760" y="1195560"/>
          <a:ext cx="215280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1760" y="1195560"/>
                    <a:ext cx="21528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00"/>
          <p:cNvGraphicFramePr/>
          <p:nvPr/>
        </p:nvGraphicFramePr>
        <p:xfrm>
          <a:off x="4668840" y="1424160"/>
          <a:ext cx="4222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142416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01"/>
          <p:cNvGraphicFramePr/>
          <p:nvPr/>
        </p:nvGraphicFramePr>
        <p:xfrm>
          <a:off x="4986360" y="1197000"/>
          <a:ext cx="173196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2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6360" y="1197000"/>
                    <a:ext cx="1731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1558800" y="1854360"/>
          <a:ext cx="88740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8800" y="1854360"/>
                    <a:ext cx="887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5"/>
          <p:cNvGraphicFramePr/>
          <p:nvPr/>
        </p:nvGraphicFramePr>
        <p:xfrm>
          <a:off x="2455920" y="1946160"/>
          <a:ext cx="36648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55920" y="1946160"/>
                    <a:ext cx="36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2760840" y="1768320"/>
          <a:ext cx="247140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0840" y="1768320"/>
                    <a:ext cx="2471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9"/>
          <p:cNvGraphicFramePr/>
          <p:nvPr/>
        </p:nvGraphicFramePr>
        <p:xfrm>
          <a:off x="5265720" y="1957320"/>
          <a:ext cx="422280" cy="27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65720" y="1957320"/>
                    <a:ext cx="422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"/>
          <p:cNvGraphicFramePr/>
          <p:nvPr/>
        </p:nvGraphicFramePr>
        <p:xfrm>
          <a:off x="5668920" y="1739880"/>
          <a:ext cx="28116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68920" y="1739880"/>
                    <a:ext cx="2811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1"/>
          <p:cNvGraphicFramePr/>
          <p:nvPr/>
        </p:nvGraphicFramePr>
        <p:xfrm>
          <a:off x="1533600" y="2476440"/>
          <a:ext cx="88740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33600" y="247644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2"/>
          <p:cNvGraphicFramePr/>
          <p:nvPr/>
        </p:nvGraphicFramePr>
        <p:xfrm>
          <a:off x="2292480" y="2463840"/>
          <a:ext cx="1355760" cy="51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92480" y="2463840"/>
                    <a:ext cx="13557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3"/>
          <p:cNvGraphicFramePr/>
          <p:nvPr/>
        </p:nvGraphicFramePr>
        <p:xfrm>
          <a:off x="3622680" y="2401920"/>
          <a:ext cx="153972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22680" y="2401920"/>
                    <a:ext cx="1539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4"/>
          <p:cNvGraphicFramePr/>
          <p:nvPr/>
        </p:nvGraphicFramePr>
        <p:xfrm>
          <a:off x="5114880" y="2500200"/>
          <a:ext cx="1182600" cy="489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14880" y="2500200"/>
                    <a:ext cx="118260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5"/>
          <p:cNvGraphicFramePr/>
          <p:nvPr/>
        </p:nvGraphicFramePr>
        <p:xfrm>
          <a:off x="6297480" y="2500200"/>
          <a:ext cx="1814760" cy="489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97480" y="2500200"/>
                    <a:ext cx="18147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1457280" y="3073320"/>
          <a:ext cx="887400" cy="455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57280" y="3073320"/>
                    <a:ext cx="88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2289240" y="2973240"/>
          <a:ext cx="1539720" cy="586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289240" y="2973240"/>
                    <a:ext cx="15397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8"/>
          <p:cNvGraphicFramePr/>
          <p:nvPr/>
        </p:nvGraphicFramePr>
        <p:xfrm>
          <a:off x="3705120" y="3071880"/>
          <a:ext cx="1562040" cy="488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05120" y="3071880"/>
                    <a:ext cx="15620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9"/>
          <p:cNvGraphicFramePr/>
          <p:nvPr/>
        </p:nvGraphicFramePr>
        <p:xfrm>
          <a:off x="5241960" y="3046320"/>
          <a:ext cx="1182600" cy="488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241960" y="3046320"/>
                    <a:ext cx="1182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20"/>
          <p:cNvSpPr/>
          <p:nvPr/>
        </p:nvSpPr>
        <p:spPr>
          <a:xfrm>
            <a:off x="1359000" y="2981160"/>
            <a:ext cx="5054400" cy="5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442800" y="40114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9"/>
          <p:cNvSpPr/>
          <p:nvPr/>
        </p:nvSpPr>
        <p:spPr>
          <a:xfrm>
            <a:off x="600120" y="437832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5 million camer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3757680" y="4075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9"/>
          <p:cNvSpPr/>
          <p:nvPr/>
        </p:nvSpPr>
        <p:spPr>
          <a:xfrm>
            <a:off x="3989520" y="440856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128.2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241200" y="32400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) Find the wholesale price for cameras to produce max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136"/>
          <p:cNvGraphicFramePr/>
          <p:nvPr/>
        </p:nvGraphicFramePr>
        <p:xfrm>
          <a:off x="1936800" y="955800"/>
          <a:ext cx="29430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955800"/>
                    <a:ext cx="2943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5357880" y="105264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# of cameras that maximizes profit for 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2379600" y="1539720"/>
          <a:ext cx="26910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0" y="1539720"/>
                    <a:ext cx="26910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4"/>
          <p:cNvGraphicFramePr/>
          <p:nvPr/>
        </p:nvGraphicFramePr>
        <p:xfrm>
          <a:off x="3168720" y="2195640"/>
          <a:ext cx="12891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8720" y="2195640"/>
                    <a:ext cx="1289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4545000" y="21826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8600" y="268596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) Find where the company would break even, run at loss, or have a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1"/>
          <p:cNvSpPr/>
          <p:nvPr/>
        </p:nvSpPr>
        <p:spPr>
          <a:xfrm>
            <a:off x="487440" y="3587760"/>
            <a:ext cx="42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2328840" y="3521160"/>
          <a:ext cx="106524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8840" y="3521160"/>
                    <a:ext cx="1065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3421080" y="3579840"/>
          <a:ext cx="27936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1080" y="3579840"/>
                    <a:ext cx="279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7"/>
          <p:cNvGraphicFramePr/>
          <p:nvPr/>
        </p:nvGraphicFramePr>
        <p:xfrm>
          <a:off x="3935520" y="3554280"/>
          <a:ext cx="120636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5520" y="3554280"/>
                    <a:ext cx="1206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5681520" y="3529080"/>
          <a:ext cx="134640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1520" y="3529080"/>
                    <a:ext cx="1346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3"/>
          <p:cNvSpPr/>
          <p:nvPr/>
        </p:nvSpPr>
        <p:spPr>
          <a:xfrm>
            <a:off x="5091120" y="355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1"/>
          <p:cNvSpPr/>
          <p:nvPr/>
        </p:nvSpPr>
        <p:spPr>
          <a:xfrm>
            <a:off x="677880" y="4044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9"/>
          <p:cNvGraphicFramePr/>
          <p:nvPr/>
        </p:nvGraphicFramePr>
        <p:xfrm>
          <a:off x="2378160" y="4029120"/>
          <a:ext cx="8128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78160" y="402912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0"/>
          <p:cNvGraphicFramePr/>
          <p:nvPr/>
        </p:nvGraphicFramePr>
        <p:xfrm>
          <a:off x="3105000" y="4087800"/>
          <a:ext cx="53028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05000" y="4087800"/>
                    <a:ext cx="530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1"/>
          <p:cNvGraphicFramePr/>
          <p:nvPr/>
        </p:nvGraphicFramePr>
        <p:xfrm>
          <a:off x="4146480" y="4062240"/>
          <a:ext cx="1676520" cy="3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6480" y="4062240"/>
                    <a:ext cx="1676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8"/>
          <p:cNvSpPr/>
          <p:nvPr/>
        </p:nvSpPr>
        <p:spPr>
          <a:xfrm>
            <a:off x="5891040" y="4062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6585120" y="4049640"/>
          <a:ext cx="195552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85120" y="4049640"/>
                    <a:ext cx="1955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201"/>
          <p:cNvSpPr/>
          <p:nvPr/>
        </p:nvSpPr>
        <p:spPr>
          <a:xfrm>
            <a:off x="703440" y="45910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3"/>
          <p:cNvGraphicFramePr/>
          <p:nvPr/>
        </p:nvGraphicFramePr>
        <p:xfrm>
          <a:off x="2365200" y="4562640"/>
          <a:ext cx="81288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65200" y="4562640"/>
                    <a:ext cx="812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3092400" y="4621320"/>
          <a:ext cx="530280" cy="393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92400" y="4621320"/>
                    <a:ext cx="5302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5"/>
          <p:cNvGraphicFramePr/>
          <p:nvPr/>
        </p:nvGraphicFramePr>
        <p:xfrm>
          <a:off x="3905280" y="4608360"/>
          <a:ext cx="2235240" cy="393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05280" y="4608360"/>
                    <a:ext cx="223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2-26T16:06:26Z</dcterms:modified>
  <cp:revision>364</cp:revision>
  <dc:subject/>
  <dc:title>1.6 Solving Absolute Value Equations and  Inequalities</dc:title>
</cp:coreProperties>
</file>