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7B645D-120F-4005-B30F-4137314F4B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0A8CF-176B-4376-ABAE-6ACD0A20D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40E202-74EB-426D-8806-03A5935EE4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89201F-C2CD-4BDD-B02D-D640DD1E2C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EE77A3-8E4A-46CD-8F5C-7D0A94A205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FA7594-7A7F-4C1D-B3F3-F6C4B73A9F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442874-6A43-40E9-B456-3FE8836FED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1AE9C1-F6A2-4DE9-A5D2-1CEE4A8680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99256D-792E-4097-B7C2-074EBA960C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E2E25E-0C7D-4C34-97B7-964C9DE576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13175B-E003-4048-9189-9BCEC07A9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80081-4888-42A2-9144-B64D5E7D8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D7FEBC-CE15-4B14-9812-19A28E59E7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2BBC85-B2A7-4748-ACB9-42B12CAA1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07582E-1345-4824-87BB-8AAE713532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7A28D1-F1EE-4E19-8133-B695238941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3BD145-3A6F-454A-9A56-34DC21FF0F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65E66D-1F2E-414B-A843-71352B622B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A9E22B-441C-4C9B-A98C-89F19D9C01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900013-C8D2-4EB3-9BFD-90C2C75C05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5F4F65-5117-4075-9C94-33639DC9C2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D65213-A59C-4417-BC1C-30B4C9B9B4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F58D3-3E91-44A7-93CB-117E4BE9A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54DA81-B976-42D9-A91A-56A6CF4BC4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616E4E-D47F-4BD1-B95F-17697AF752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C329E6-DD90-4967-A92A-D9E232B5E6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25C685-1CCB-489D-BCE5-1E0A126E80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7C892E-5A7A-43E0-9E25-4002B8B4D1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66EB29-456C-4483-AC14-F8F9268116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2465B5-C1C8-489B-8E59-10FA617D47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A09D1E-379D-4BD7-8809-BC80D72691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41C374-8A0A-4A0A-AB1E-8B429D9126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4183E4-2E2D-43E3-BF45-8F79C793E2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703AE-F482-466D-85B8-FF2A41B15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FD509C-C9AD-402A-9F9D-EFD289CD1A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B1B9EC-C112-4CA3-B914-B8E62C4CED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DB228C-0AF9-4F97-B32F-03BAFD41D0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C68C5C-64E7-496D-855B-5E257AB304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CA18F8-1CF3-4E5B-AA14-7958458319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D0924B-2516-4AD7-AD71-963622A607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66CE2B-8424-474D-8DA9-23459F88F8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2F17D6-5CF3-4326-AAE1-10A7FAEA8C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91E6EF-4885-4D86-9010-2931C0ACE6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3136E-958E-4993-8549-C72382381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2B279-2E19-4CE6-ACD8-F45E63ECB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7892F-5767-41AF-A8BC-8B15CAA6B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363D5-83F4-4697-8CDD-346E97787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78F31-1674-4029-BB32-9D8297B600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98BC8-E5E7-4A2D-9D0F-21CAB3C3C93A}"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A3C35-0976-4B08-B801-A09C2B299785}"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C1D38-5ADD-44C6-95E4-6D549FC62177}"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6E45D-6079-4B73-974A-96E0CEE1E562}"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hpmuseum.org/sliderul.htm" TargetMode="External"/><Relationship Id="rId2" Type="http://schemas.openxmlformats.org/officeDocument/2006/relationships/hyperlink" Target="http://edhelper.com/Logarithms20.htm"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0280" y="1365120"/>
            <a:ext cx="8308800" cy="190188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Objective: To understand the history of logarithms and how to use them.</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Video!</a:t>
            </a:r>
            <a:endParaRPr b="0" lang="en-US" sz="50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ttp://www.youtube.com/watch?v=NB_lHeBY26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itations</a:t>
            </a:r>
            <a:endParaRPr b="0" lang="en-US" sz="50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lide Rules". The Museum of HP Calculators. 4/20/10 &lt;</a:t>
            </a:r>
            <a:r>
              <a:rPr b="0" lang="en-US" sz="2600" spc="-1" strike="noStrike" u="sng">
                <a:solidFill>
                  <a:srgbClr val="e2d700"/>
                </a:solidFill>
                <a:uFillTx/>
                <a:latin typeface="Constantia"/>
                <a:hlinkClick r:id="rId1"/>
              </a:rPr>
              <a:t>http://www.hpmuseum.org/sliderul.htm</a:t>
            </a:r>
            <a:r>
              <a:rPr b="0" lang="en-US"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nknown, . "Logarithms." </a:t>
            </a:r>
            <a:r>
              <a:rPr b="0" i="1" lang="en-US" sz="2600" spc="-1" strike="noStrike">
                <a:solidFill>
                  <a:srgbClr val="000000"/>
                </a:solidFill>
                <a:latin typeface="Constantia"/>
              </a:rPr>
              <a:t>edhelper</a:t>
            </a:r>
            <a:r>
              <a:rPr b="0" lang="en-US" sz="2600" spc="-1" strike="noStrike">
                <a:solidFill>
                  <a:srgbClr val="000000"/>
                </a:solidFill>
                <a:latin typeface="Constantia"/>
              </a:rPr>
              <a:t>. Unknown, 2010. Web. 20 Apr 2010. &lt;</a:t>
            </a:r>
            <a:r>
              <a:rPr b="0" lang="en-US" sz="2600" spc="-1" strike="noStrike" u="sng">
                <a:solidFill>
                  <a:srgbClr val="e2d700"/>
                </a:solidFill>
                <a:uFillTx/>
                <a:latin typeface="Constantia"/>
                <a:hlinkClick r:id="rId2"/>
              </a:rPr>
              <a:t>http://edhelper.com/Logarithms20.htm</a:t>
            </a:r>
            <a:r>
              <a:rPr b="0" lang="en-US"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og Tables." </a:t>
            </a:r>
            <a:r>
              <a:rPr b="0" i="1" lang="en-US" sz="2600" spc="-1" strike="noStrike">
                <a:solidFill>
                  <a:srgbClr val="000000"/>
                </a:solidFill>
                <a:latin typeface="Constantia"/>
              </a:rPr>
              <a:t>Math</a:t>
            </a:r>
            <a:r>
              <a:rPr b="0" lang="en-US" sz="2600" spc="-1" strike="noStrike">
                <a:solidFill>
                  <a:srgbClr val="000000"/>
                </a:solidFill>
                <a:latin typeface="Constantia"/>
              </a:rPr>
              <a:t>. DOMEX E-DATA PVT. LTD, 2009. Web. 20 Apr 2010. &lt;http://www.scenta.co.uk/tcaep/maths/number/logtab/index.htm&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arm up</a:t>
            </a:r>
            <a:endParaRPr b="0" lang="en-US" sz="5000" spc="-1" strike="noStrike">
              <a:solidFill>
                <a:srgbClr val="04617b"/>
              </a:solidFill>
              <a:latin typeface="Calibri"/>
            </a:endParaRPr>
          </a:p>
        </p:txBody>
      </p:sp>
      <p:sp>
        <p:nvSpPr>
          <p:cNvPr id="198" name=""/>
          <p:cNvSpPr txBox="1"/>
          <p:nvPr/>
        </p:nvSpPr>
        <p:spPr>
          <a:xfrm>
            <a:off x="380880" y="1523880"/>
            <a:ext cx="8229600" cy="452592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 a. 4</a:t>
            </a:r>
            <a:r>
              <a:rPr b="0" lang="en-US" sz="2600" spc="-1" strike="noStrike" baseline="30000">
                <a:solidFill>
                  <a:srgbClr val="000000"/>
                </a:solidFill>
                <a:latin typeface="Constantia"/>
              </a:rPr>
              <a:t>-4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 (x</a:t>
            </a:r>
            <a:r>
              <a:rPr b="0" lang="en-US" sz="2600" spc="-1" strike="noStrike" baseline="30000">
                <a:solidFill>
                  <a:srgbClr val="000000"/>
                </a:solidFill>
                <a:latin typeface="Constantia"/>
              </a:rPr>
              <a:t>3</a:t>
            </a:r>
            <a:r>
              <a:rPr b="0" lang="en-US" sz="2600" spc="-1" strike="noStrike">
                <a:solidFill>
                  <a:srgbClr val="000000"/>
                </a:solidFill>
                <a:latin typeface="Constantia"/>
              </a:rPr>
              <a:t>)</a:t>
            </a:r>
            <a:r>
              <a:rPr b="0" lang="en-US" sz="2600" spc="-1" strike="noStrike" baseline="30000">
                <a:solidFill>
                  <a:srgbClr val="000000"/>
                </a:solidFill>
                <a:latin typeface="Constantia"/>
              </a:rPr>
              <a:t> 3</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 (-x)</a:t>
            </a:r>
            <a:r>
              <a:rPr b="0" lang="en-US" sz="2600" spc="-1" strike="noStrike" baseline="30000">
                <a:solidFill>
                  <a:srgbClr val="000000"/>
                </a:solidFill>
                <a:latin typeface="Constantia"/>
              </a:rPr>
              <a:t>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2.) Graph y=4</a:t>
            </a:r>
            <a:r>
              <a:rPr b="0" lang="en-US" sz="2600" spc="-1" strike="noStrike" baseline="30000">
                <a:solidFill>
                  <a:srgbClr val="000000"/>
                </a:solidFill>
                <a:latin typeface="Constantia"/>
              </a:rPr>
              <a:t>x</a:t>
            </a:r>
            <a:r>
              <a:rPr b="0" lang="en-US" sz="2600" spc="-1" strike="noStrike">
                <a:solidFill>
                  <a:srgbClr val="000000"/>
                </a:solidFill>
                <a:latin typeface="Constantia"/>
              </a:rPr>
              <a:t> from (-3, 3)</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istory of logs</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 1614, John Napier discovered the logarithm which made it possible to perform multiplications and divisions by addition and subtraction. (ie: a*b = 10^(log(a)+log(b)) and a/b = 10^(log(a)-log(b)).)</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lide Rul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scale started at one because the log of one is zero. Two numbers could be multiplied by measuring the distance from the beginning of the scale to one factor with a pair of dividers, then moving them to start at the other factor and reading the number at the combined distance.</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otes </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Finding the index of a logarithm</a:t>
            </a:r>
            <a:br>
              <a:rPr sz="2400"/>
            </a:br>
            <a:r>
              <a:rPr b="0" lang="en-US" sz="2400" spc="-1" strike="noStrike">
                <a:solidFill>
                  <a:srgbClr val="000000"/>
                </a:solidFill>
                <a:latin typeface="Constantia"/>
              </a:rPr>
              <a:t>This is easy if you follow these rules:</a:t>
            </a:r>
            <a:br>
              <a:rPr sz="2400"/>
            </a:br>
            <a:r>
              <a:rPr b="0" lang="en-US" sz="2400" spc="-1" strike="noStrike">
                <a:solidFill>
                  <a:srgbClr val="000000"/>
                </a:solidFill>
                <a:latin typeface="Constantia"/>
              </a:rPr>
              <a:t>For numbers with more than 1 digit before the decimal point (10 and above), the index will always be one less than the number of digits before the decimal point. For example, the index of 245.211 is 2, the index of 24521.1 is 4 and the index of 24.5211 is 1.</a:t>
            </a:r>
            <a:br>
              <a:rPr sz="2400"/>
            </a:br>
            <a:r>
              <a:rPr b="0" lang="en-US" sz="2400" spc="-1" strike="noStrike">
                <a:solidFill>
                  <a:srgbClr val="000000"/>
                </a:solidFill>
                <a:latin typeface="Constantia"/>
              </a:rPr>
              <a:t>For numbers with just 1 digit before the decimal point (1 to 9), the index will be 0. For numbers less than 1, then index will be one more than the number of zeros between the decimal point and the first significant figure. For example, the index of 0.245211 is (bar) 1, the index of 0.00245211 is (bar) 3 and the index of 0.000245211 is (bar) 4.</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otes</a:t>
            </a:r>
            <a:endParaRPr b="0" lang="en-US" sz="50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r numbers with just 1 digit before the decimal point (1 to 9), the index will be 0. For numbers less than 1, then index will be one more than the number of zeros between the decimal point and the first significant figure. For example, the index of 0.245211 is (bar) 1, the index of 0.00245211 is (bar) 3 and the index of 0.000245211 is (bar) 4.</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otes</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Finding the mantissa of a logarithm</a:t>
            </a:r>
            <a:br>
              <a:rPr sz="2600"/>
            </a:br>
            <a:r>
              <a:rPr b="0" lang="en-US" sz="2600" spc="-1" strike="noStrike">
                <a:solidFill>
                  <a:srgbClr val="000000"/>
                </a:solidFill>
                <a:latin typeface="Constantia"/>
              </a:rPr>
              <a:t>Use the numbers at the far left of the table to give the first two significant figures of the number. If there are more than two digits in the number, follow across the table - the column headings give the third digit of the number. The numbers given in the log table represent the mantissa part of the answe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otes</a:t>
            </a:r>
            <a:endParaRPr b="0" lang="en-US" sz="50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xample: To find log 45, follow down the numbers on the far left of the table until you reach </a:t>
            </a:r>
            <a:r>
              <a:rPr b="1" lang="en-US" sz="2600" spc="-1" strike="noStrike">
                <a:solidFill>
                  <a:srgbClr val="000000"/>
                </a:solidFill>
                <a:latin typeface="Constantia"/>
              </a:rPr>
              <a:t>45</a:t>
            </a:r>
            <a:r>
              <a:rPr b="0" lang="en-US" sz="2600" spc="-1" strike="noStrike">
                <a:solidFill>
                  <a:srgbClr val="000000"/>
                </a:solidFill>
                <a:latin typeface="Constantia"/>
              </a:rPr>
              <a:t>. The number in the column headed </a:t>
            </a:r>
            <a:r>
              <a:rPr b="1" lang="en-US" sz="2600" spc="-1" strike="noStrike">
                <a:solidFill>
                  <a:srgbClr val="000000"/>
                </a:solidFill>
                <a:latin typeface="Constantia"/>
              </a:rPr>
              <a:t>0</a:t>
            </a:r>
            <a:r>
              <a:rPr b="0" lang="en-US" sz="2600" spc="-1" strike="noStrike">
                <a:solidFill>
                  <a:srgbClr val="000000"/>
                </a:solidFill>
                <a:latin typeface="Constantia"/>
              </a:rPr>
              <a:t> will be the mantissa - the index is 1 (see above) - so log 45 = 1.6532.</a:t>
            </a:r>
            <a:br>
              <a:rPr sz="2600"/>
            </a:br>
            <a:r>
              <a:rPr b="0" lang="en-US" sz="2600" spc="-1" strike="noStrike">
                <a:solidFill>
                  <a:srgbClr val="000000"/>
                </a:solidFill>
                <a:latin typeface="Constantia"/>
              </a:rPr>
              <a:t>To find log 456, follow down the numbers on the far left of the table until you reach </a:t>
            </a:r>
            <a:r>
              <a:rPr b="1" lang="en-US" sz="2600" spc="-1" strike="noStrike">
                <a:solidFill>
                  <a:srgbClr val="000000"/>
                </a:solidFill>
                <a:latin typeface="Constantia"/>
              </a:rPr>
              <a:t>45</a:t>
            </a:r>
            <a:r>
              <a:rPr b="0" lang="en-US" sz="2600" spc="-1" strike="noStrike">
                <a:solidFill>
                  <a:srgbClr val="000000"/>
                </a:solidFill>
                <a:latin typeface="Constantia"/>
              </a:rPr>
              <a:t> and take the number in column </a:t>
            </a:r>
            <a:r>
              <a:rPr b="1" lang="en-US" sz="2600" spc="-1" strike="noStrike">
                <a:solidFill>
                  <a:srgbClr val="000000"/>
                </a:solidFill>
                <a:latin typeface="Constantia"/>
              </a:rPr>
              <a:t>6</a:t>
            </a:r>
            <a:r>
              <a:rPr b="0" lang="en-US" sz="2600" spc="-1" strike="noStrike">
                <a:solidFill>
                  <a:srgbClr val="000000"/>
                </a:solidFill>
                <a:latin typeface="Constantia"/>
              </a:rPr>
              <a:t>. The index is 2, so log 456 = 2.6590.</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Vocabulary</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ogarithm- the exponent of the power to which a base number must be raised to equal a given number; log: 2 is the logarithm of 100 to the base 10 (2 = log</a:t>
            </a:r>
            <a:r>
              <a:rPr b="0" lang="en-US" sz="2600" spc="-1" strike="noStrike" baseline="-25000">
                <a:solidFill>
                  <a:srgbClr val="000000"/>
                </a:solidFill>
                <a:latin typeface="Constantia"/>
              </a:rPr>
              <a:t>10</a:t>
            </a:r>
            <a:r>
              <a:rPr b="0" lang="en-US" sz="2600" spc="-1" strike="noStrike">
                <a:solidFill>
                  <a:srgbClr val="000000"/>
                </a:solidFill>
                <a:latin typeface="Constantia"/>
              </a:rPr>
              <a:t> 10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xponent- a symbol or number placed above and after another symbol or number to denote the power to which the latter is to be raised: The exponents of the quantities x </a:t>
            </a:r>
            <a:r>
              <a:rPr b="0" lang="en-US" sz="2600" spc="-1" strike="noStrike" baseline="30000">
                <a:solidFill>
                  <a:srgbClr val="000000"/>
                </a:solidFill>
                <a:latin typeface="Constantia"/>
              </a:rPr>
              <a:t>n </a:t>
            </a:r>
            <a:r>
              <a:rPr b="0" lang="en-US" sz="2600" spc="-1" strike="noStrike">
                <a:solidFill>
                  <a:srgbClr val="000000"/>
                </a:solidFill>
                <a:latin typeface="Constantia"/>
              </a:rPr>
              <a:t>, 2 </a:t>
            </a:r>
            <a:r>
              <a:rPr b="0" lang="en-US" sz="2600" spc="-1" strike="noStrike" baseline="30000">
                <a:solidFill>
                  <a:srgbClr val="000000"/>
                </a:solidFill>
                <a:latin typeface="Constantia"/>
              </a:rPr>
              <a:t>m </a:t>
            </a:r>
            <a:r>
              <a:rPr b="0" lang="en-US" sz="2600" spc="-1" strike="noStrike">
                <a:solidFill>
                  <a:srgbClr val="000000"/>
                </a:solidFill>
                <a:latin typeface="Constantia"/>
              </a:rPr>
              <a:t>, y </a:t>
            </a:r>
            <a:r>
              <a:rPr b="0" lang="en-US" sz="2600" spc="-1" strike="noStrike" baseline="30000">
                <a:solidFill>
                  <a:srgbClr val="000000"/>
                </a:solidFill>
                <a:latin typeface="Constantia"/>
              </a:rPr>
              <a:t>4 </a:t>
            </a:r>
            <a:r>
              <a:rPr b="0" lang="en-US" sz="2600" spc="-1" strike="noStrike">
                <a:solidFill>
                  <a:srgbClr val="000000"/>
                </a:solidFill>
                <a:latin typeface="Constantia"/>
              </a:rPr>
              <a:t>, and 3 </a:t>
            </a:r>
            <a:r>
              <a:rPr b="0" lang="en-US" sz="2600" spc="-1" strike="noStrike" baseline="30000">
                <a:solidFill>
                  <a:srgbClr val="000000"/>
                </a:solidFill>
                <a:latin typeface="Constantia"/>
              </a:rPr>
              <a:t>5 </a:t>
            </a:r>
            <a:r>
              <a:rPr b="0" lang="en-US" sz="2600" spc="-1" strike="noStrike">
                <a:solidFill>
                  <a:srgbClr val="000000"/>
                </a:solidFill>
                <a:latin typeface="Constantia"/>
              </a:rPr>
              <a:t> are, respectively, n, m, 4, and 5.</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og Table</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ttp://www.ask.com/bar?q=log+table&amp;page=1&amp;qsrc=2891&amp;dm=all&amp;ab=0&amp;u=http%3A%2F%2Fwww.sosmath.com%2Ftables%2Flogtable%2Flogtable.html&amp;sg=58614rjqbm7dZ5Yovid5ulfI4IfgWdEaKKlL7pyslI8%3D&amp;tsp=1271693663376</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16:04:48Z</dcterms:created>
  <dc:creator>Jeffco</dc:creator>
  <dc:description/>
  <dc:language>en-US</dc:language>
  <cp:lastModifiedBy>JCPS</cp:lastModifiedBy>
  <dcterms:modified xsi:type="dcterms:W3CDTF">2010-04-23T22:06:37Z</dcterms:modified>
  <cp:revision>6</cp:revision>
  <dc:subject/>
  <dc:title>Logarithms!</dc:title>
</cp:coreProperties>
</file>