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BD07-8D41-4CF6-876A-8C972757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2C8D-041A-4E53-9ACD-8A504CF3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72CD-25C6-4B8B-AC62-31668C57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08F1-1DAF-4249-A5DB-F41758B3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1A45-37BD-4DF4-B93D-6050ED58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CF87-6708-4DA5-AC59-3A1FD643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6561-B2B6-4311-8EAF-B2E8ADFD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E011-0CFB-44A8-98E6-9D8E851F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1B49-572C-464C-AAD8-603FF565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B6A5-B15C-476F-B5AF-13482CAF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1510-CE40-47EB-9688-94625AD5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C7B9-96F1-4517-A426-74698BB8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C3D2-7595-455F-8604-0283C9F6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894B-5087-4717-8888-F2504604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4C46-E92A-48D1-AB36-2126A49C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12BC-D5B6-4B8A-BB4B-600A82DF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7DA5-7045-46BF-8DCE-EC52754A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600D-E310-4BF0-B7E5-7EA3BFDD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D896-D0F3-46B7-8B41-B2D6EBB5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7B29-9980-4F35-8B34-22BD10F1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B711-3A89-40AC-A402-2DB6DDA7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B210-7A67-47A8-BC25-68B0159D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5407-4F41-47B8-B56B-5ADBD277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3588-46F8-419D-9F94-86EA09E8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A43D-A08C-45E7-AA2E-D03FF7B03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EACE-9A01-4FAF-B8C8-090A270A45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%3Chttp:/math.about.com/library/weekly/blbionapier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0lPgIcWaKg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xsPlxYbLJ4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arBR2ErXkyA" TargetMode="External"/><Relationship Id="rId2" Type="http://schemas.openxmlformats.org/officeDocument/2006/relationships/hyperlink" Target="http://www.youtube.com/watch?v=e5B5EJJGP4Q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All About Logarithm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ck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nna, Justin, Ronnie and Br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 problem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44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Solv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so by rewriting the equation in exponential fo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2"/>
              <p:cNvSpPr txBox="1"/>
              <p:nvPr/>
            </p:nvSpPr>
            <p:spPr>
              <a:xfrm>
                <a:off x="2895480" y="1981080"/>
                <a:ext cx="2311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re Practice Problem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7720" y="20574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Sol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this by applying the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will give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use your log rules to simplify the left side…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2"/>
              <p:cNvSpPr txBox="1"/>
              <p:nvPr/>
            </p:nvSpPr>
            <p:spPr>
              <a:xfrm>
                <a:off x="2819520" y="1981080"/>
                <a:ext cx="2377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3"/>
              <p:cNvSpPr txBox="1"/>
              <p:nvPr/>
            </p:nvSpPr>
            <p:spPr>
              <a:xfrm>
                <a:off x="6629400" y="2514600"/>
                <a:ext cx="1200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4495680" y="3124080"/>
                <a:ext cx="2637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os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:  N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y:  Today, I learn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 logarith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ita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pier, John. "Logarithms: Large Numbers Simplified". ask.com. 4/19/10 </a:t>
            </a: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&lt;http://math.about.com/library/weekly/blbionapier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pel, Elizabeth. "Basic Log Rules / Expanding Logarithmic Expressions."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urplem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Available fro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ttp://www.purplemath.com/modules/logrules.ht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Accessed 19 April 2010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nxsPlxYbLJ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arBR2ErXk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e5B5EJJGP4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10lPgIcWa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Logarithms Explained". Zyra.org. 4/19/10 &lt;http://www.zyra.org.uk/logs.htm&gt;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ll About Logarithm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Objective:  to learn everything there is to know and practice using logarith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m Up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10³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100000= 10 to the what pow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kground Inf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Napier (inventor of the logarith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n in 15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d not enter school until the age of 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greatly interested in astronom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involved in astronomy research that involved long and complicated calc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lead to his discovery of logarith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known discovery of logs in 1614 in a book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 Description of the Wonderful Canon of Logarithm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ed in 16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a logarithm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ogarithm is the power of ten that gives you the pro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³=100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garithm of 1000 is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also write as log    1000=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6700680" y="4414680"/>
            <a:ext cx="327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1055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g ru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o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+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o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o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·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youtube.com/watch?v=10lPgIcWaK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09680" y="21337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133720" y="2666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133720" y="3200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114800" y="2133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4267080" y="2666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4724280" y="3200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594360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5791320" y="21337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atural L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atural log is a log with an irrational number as the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 e, = log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l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505320" y="32767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g Tab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re used before calculators as a way to multiply and divide large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take the number of zeroes and that is the log of that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1000*100=10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three zeroes and two zeroes=five zero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5 would have two zeroes if it were 1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, it is a little more than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(125) is 2.0969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valuating Log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youtube.com/watch?v=nxsPlxYbLJ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garithmic equa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youtube.com/watch?v=arBR2ErXk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www.youtube.com/watch?v=e5B5EJJGP4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23:50:19Z</dcterms:created>
  <dc:creator>Jenna Harris</dc:creator>
  <dc:description/>
  <dc:language>en-US</dc:language>
  <cp:lastModifiedBy>JCPS</cp:lastModifiedBy>
  <dcterms:modified xsi:type="dcterms:W3CDTF">2010-04-23T22:08:18Z</dcterms:modified>
  <cp:revision>8</cp:revision>
  <dc:subject/>
  <dc:title>All About Logarithms</dc:title>
</cp:coreProperties>
</file>