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B07-364C-4A8D-A605-7EED461C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26E-65BA-4FD7-A758-7E43777E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4BE-E16F-4275-B0E5-EC22CB89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484-AC8D-4EFD-841B-9FA97090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8A26-57D9-4406-966B-2CB735E6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F9F3-CB0C-4589-8876-8F34283A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A35E-5F97-41F2-8D6D-7FC5282A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8567-D4A4-4B0F-BD15-45E38122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F81F-2E59-414F-8B10-FC824277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B344-D192-492B-8399-87E919D0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91A3-6FCE-435F-9ADB-38D90A5B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1CB-65D9-402C-B213-78CDD0DC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B01C-EE8C-4574-A691-81A01EBA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471D-78D4-4F20-A97C-65749B27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BC80-21C9-4E94-A9E4-8CC31DA5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6D40-0548-45A9-893B-DAEA7A74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EA4A-9445-4A32-97B4-CE38A1A6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9F8-51C4-4B8E-ADAC-3CDD8C67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143-E5FB-4558-9914-AB330A56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632-58AD-4F17-B9BE-11CEBD42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090-5196-4C1B-889C-32FD508D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C55-91E0-4396-969F-FB99C4C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CAD-B2E3-4FEB-93E1-0919550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216-9166-4D00-9B0F-B9D217F6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38D4-8D08-41F0-BFCD-830CD2CE4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09B9-B89B-47CA-B1E8-4AECC7EBD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%3Chttp:/math.about.com/library/weekly/blbionapier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0lPgIcWaK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xsPlxYbLJ4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rBR2ErXkyA" TargetMode="External"/><Relationship Id="rId2" Type="http://schemas.openxmlformats.org/officeDocument/2006/relationships/hyperlink" Target="http://www.youtube.com/watch?v=e5B5EJJGP4Q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ll About Logarithm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nna, Justin, Ronnie and B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Solv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o by rewriting the equation in exponential 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2895480" y="1981080"/>
                <a:ext cx="2311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re Practice Probl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Sol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his by applying th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ill give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use your log rules to simplify the left side…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2819520" y="1981080"/>
                <a:ext cx="2377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6629400" y="2514600"/>
                <a:ext cx="120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4495680" y="3124080"/>
                <a:ext cx="2637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o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: 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:  Today, I learn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logarith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it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ier, John. "Logarithms: Large Numbers Simplified". ask.com. 4/19/10 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&lt;http://math.about.com/library/weekly/blbionapier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pel, Elizabeth. "Basic Log Rules / Expanding Logarithmic Expressions."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rplem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vailable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purplemath.com/modules/logrules.ht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ccessed 19 April 2010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nxsPlxYbLJ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arBR2ErXk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e5B5EJJGP4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10lPgIcWa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Logarithms Explained". Zyra.org. 4/19/10 &lt;http://www.zyra.org.uk/logs.htm&gt;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l About Logarith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Objective:  to learn everything there is to know and practice using logarith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Up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10³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100000= 10 to the what po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kground Inf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Napier (inventor of the logarith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in 15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not enter school until the age of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greatly interested in astrono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involved in astronomy research that involved long and complicated cal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lead to his discovery of loga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known discovery of logs in 1614 in a book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Description of the Wonderful Canon of Logarithm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d in 16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logarithm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garithm is the power of ten that gives you the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=1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garithm of 1000 i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lso write as log    1000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700680" y="4414680"/>
            <a:ext cx="32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105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g ru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·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10lPgIcWa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09680" y="2133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133720" y="2666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337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11480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26708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72428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94360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791320" y="2133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tural L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ural log is a log with an irrational number as the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 e, = log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l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505320" y="3276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g Tab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 used before calculators as a way to multiply and divide larg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ake the number of zeroes and that is the log of that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1000*100=1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ree zeroes and two zeroes=five zero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5 would have two zeroes if it were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, it is a little more than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(125) is 2.096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aluating L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nxsPlxYbLJ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garithmic equ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arBR2ErXk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youtube.com/watch?v=e5B5EJJGP4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50:19Z</dcterms:created>
  <dc:creator>Jenna Harris</dc:creator>
  <dc:description/>
  <dc:language>en-US</dc:language>
  <cp:lastModifiedBy>JCPS</cp:lastModifiedBy>
  <dcterms:modified xsi:type="dcterms:W3CDTF">2010-04-23T22:08:18Z</dcterms:modified>
  <cp:revision>8</cp:revision>
  <dc:subject/>
  <dc:title>All About Logarithms</dc:title>
</cp:coreProperties>
</file>