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59.jpeg" ContentType="image/jpeg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38.wmf" ContentType="image/x-wmf"/>
  <Override PartName="/ppt/media/image52.wmf" ContentType="image/x-wmf"/>
  <Override PartName="/ppt/media/image53.wmf" ContentType="image/x-wmf"/>
  <Override PartName="/ppt/media/image16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0.wmf" ContentType="image/x-wmf"/>
  <Override PartName="/ppt/media/image8.png" ContentType="image/png"/>
  <Override PartName="/ppt/media/image41.wmf" ContentType="image/x-wmf"/>
  <Override PartName="/ppt/media/image39.wmf" ContentType="image/x-wmf"/>
  <Override PartName="/ppt/media/image9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0C56-5D5A-4926-B37B-1C9ACF715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3A70-405C-4BC0-B7B9-FBA47162B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A9BA-446D-4495-B36A-7254DFA8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0B3-8346-4439-8C99-CEEBE383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31C-2731-4F0D-9DF2-B052980E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FF3-9118-4D52-854C-AA5EF174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F1F-61AD-4ABC-8220-225CAABE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2446-1458-40CB-85AF-53CF683F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BC5-D295-405C-9B1B-8F8D1EB1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7A2-7062-4F37-86ED-D164901B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BF0-4DEB-43DC-8AD9-45EC8CA8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6D8-75EA-4BB3-A224-A287CCF6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40E-97BD-4453-BE69-D468FCC0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7FC-D953-4298-854D-591A693E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DF0D-5197-40B4-9233-1474E59EE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7.wmf"/><Relationship Id="rId9" Type="http://schemas.openxmlformats.org/officeDocument/2006/relationships/image" Target="../media/image2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8.png"/><Relationship Id="rId9" Type="http://schemas.openxmlformats.org/officeDocument/2006/relationships/image" Target="../media/image24.wmf"/><Relationship Id="rId10" Type="http://schemas.openxmlformats.org/officeDocument/2006/relationships/image" Target="../media/image25.wmf"/><Relationship Id="rId11" Type="http://schemas.openxmlformats.org/officeDocument/2006/relationships/image" Target="../media/image26.wmf"/><Relationship Id="rId12" Type="http://schemas.openxmlformats.org/officeDocument/2006/relationships/image" Target="../media/image27.wmf"/><Relationship Id="rId13" Type="http://schemas.openxmlformats.org/officeDocument/2006/relationships/image" Target="../media/image28.wmf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image" Target="../media/image38.wmf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6.wmf"/><Relationship Id="rId8" Type="http://schemas.openxmlformats.org/officeDocument/2006/relationships/image" Target="../media/image47.wmf"/><Relationship Id="rId9" Type="http://schemas.openxmlformats.org/officeDocument/2006/relationships/image" Target="../media/image48.wmf"/><Relationship Id="rId10" Type="http://schemas.openxmlformats.org/officeDocument/2006/relationships/image" Target="../media/image41.wmf"/><Relationship Id="rId11" Type="http://schemas.openxmlformats.org/officeDocument/2006/relationships/image" Target="../media/image49.wmf"/><Relationship Id="rId12" Type="http://schemas.openxmlformats.org/officeDocument/2006/relationships/image" Target="../media/image50.wmf"/><Relationship Id="rId13" Type="http://schemas.openxmlformats.org/officeDocument/2006/relationships/image" Target="../media/image51.wmf"/><Relationship Id="rId14" Type="http://schemas.openxmlformats.org/officeDocument/2006/relationships/image" Target="../media/image52.wmf"/><Relationship Id="rId15" Type="http://schemas.openxmlformats.org/officeDocument/2006/relationships/image" Target="../media/image53.wmf"/><Relationship Id="rId16" Type="http://schemas.openxmlformats.org/officeDocument/2006/relationships/image" Target="../media/image54.wmf"/><Relationship Id="rId17" Type="http://schemas.openxmlformats.org/officeDocument/2006/relationships/image" Target="../media/image55.wmf"/><Relationship Id="rId18" Type="http://schemas.openxmlformats.org/officeDocument/2006/relationships/image" Target="../media/image41.wmf"/><Relationship Id="rId19" Type="http://schemas.openxmlformats.org/officeDocument/2006/relationships/image" Target="../media/image56.wmf"/><Relationship Id="rId20" Type="http://schemas.openxmlformats.org/officeDocument/2006/relationships/image" Target="../media/image50.wmf"/><Relationship Id="rId21" Type="http://schemas.openxmlformats.org/officeDocument/2006/relationships/image" Target="../media/image57.wmf"/><Relationship Id="rId22" Type="http://schemas.openxmlformats.org/officeDocument/2006/relationships/image" Target="../media/image52.wmf"/><Relationship Id="rId23" Type="http://schemas.openxmlformats.org/officeDocument/2006/relationships/image" Target="../media/image53.wmf"/><Relationship Id="rId24" Type="http://schemas.openxmlformats.org/officeDocument/2006/relationships/image" Target="../media/image58.wmf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Basic Counting and Multiplication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4256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apply and use addition and multiplication principles with regards to Venn diagrams and counting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74840" y="243684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W/INB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05880" y="222552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ny 2 sets A an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752400" y="3708360"/>
            <a:ext cx="7356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A and B are disjoint (not overlapping),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25640" y="2738520"/>
            <a:ext cx="1942920" cy="6588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1036080" y="163512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= # i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922480" y="2714760"/>
            <a:ext cx="955800" cy="65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54520" y="2716200"/>
            <a:ext cx="1185840" cy="65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046840" y="2728800"/>
            <a:ext cx="1844640" cy="6588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280080" y="33051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082520" y="3240000"/>
            <a:ext cx="1943280" cy="65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2954160" y="3216240"/>
            <a:ext cx="955800" cy="65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3859200" y="3205080"/>
            <a:ext cx="1185840" cy="65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4983120" y="3230640"/>
            <a:ext cx="1844640" cy="658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1192320" y="4464000"/>
            <a:ext cx="1942920" cy="65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3119400" y="4390920"/>
            <a:ext cx="955800" cy="65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1"/>
          <a:stretch/>
        </p:blipFill>
        <p:spPr>
          <a:xfrm>
            <a:off x="4065480" y="4405320"/>
            <a:ext cx="1185840" cy="658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1"/>
          <p:cNvSpPr/>
          <p:nvPr/>
        </p:nvSpPr>
        <p:spPr>
          <a:xfrm>
            <a:off x="1215360" y="687240"/>
            <a:ext cx="652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Basic Counting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246240" y="1293840"/>
            <a:ext cx="85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38 Students take German I, 25 students take Algebra I, and 7 students take both out of a group of 60 students. How many take nei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3550" t="15923" r="5412" b="7641"/>
          <a:stretch/>
        </p:blipFill>
        <p:spPr>
          <a:xfrm>
            <a:off x="6218280" y="2535120"/>
            <a:ext cx="2724120" cy="17449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6454800" y="264780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8375760" y="263844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7435440" y="3189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7878600" y="316404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851880" y="31892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8415720" y="375444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6560" y="3132000"/>
            <a:ext cx="1384560" cy="5540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300600" y="262080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’s f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806480" y="3051000"/>
            <a:ext cx="4316400" cy="659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795320" y="3800520"/>
            <a:ext cx="822600" cy="461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585880" y="3800520"/>
            <a:ext cx="725760" cy="461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3274920" y="3772080"/>
            <a:ext cx="527040" cy="460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3884760" y="3763800"/>
            <a:ext cx="822240" cy="462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226800" y="426564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we w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286000" y="4321080"/>
            <a:ext cx="1468440" cy="554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3710160" y="4357800"/>
            <a:ext cx="1546200" cy="461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5276880" y="4376880"/>
            <a:ext cx="625320" cy="428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5"/>
          <p:cNvSpPr/>
          <p:nvPr/>
        </p:nvSpPr>
        <p:spPr>
          <a:xfrm>
            <a:off x="5527800" y="4289400"/>
            <a:ext cx="442800" cy="55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599120" y="343080"/>
            <a:ext cx="43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aphrase these exampl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06360" y="28584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Out of 100 students, 75 take math, 65 take science, and 10 take neither. How many take bo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14200" y="300996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According to a survey of business firms in Denver, 750 offer health insurance, 640 offer dental insurance, and 280 offer healt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ntal insurance. How many firms offer their employees health insurance OR dental insur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rcRect l="3550" t="15923" r="5412" b="7641"/>
          <a:stretch/>
        </p:blipFill>
        <p:spPr>
          <a:xfrm>
            <a:off x="6419880" y="1068480"/>
            <a:ext cx="2724120" cy="17445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6660720" y="11811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585640" y="11714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525160" y="2260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02200" y="120960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’s f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6000" y="1693800"/>
            <a:ext cx="2043000" cy="658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170080" y="1695600"/>
            <a:ext cx="4184640" cy="658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944720" y="2401920"/>
            <a:ext cx="824040" cy="461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2773440" y="2389320"/>
            <a:ext cx="725400" cy="461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3489480" y="2390760"/>
            <a:ext cx="723600" cy="461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4302000" y="2392200"/>
            <a:ext cx="824040" cy="462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0"/>
          <p:cNvSpPr/>
          <p:nvPr/>
        </p:nvSpPr>
        <p:spPr>
          <a:xfrm>
            <a:off x="4572000" y="2338560"/>
            <a:ext cx="522360" cy="55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8"/>
          <a:srcRect l="3550" t="15923" r="5412" b="7641"/>
          <a:stretch/>
        </p:blipFill>
        <p:spPr>
          <a:xfrm>
            <a:off x="6141960" y="4905360"/>
            <a:ext cx="2724120" cy="17445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6389640" y="501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279640" y="50086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331040" y="56008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290520" y="5403960"/>
            <a:ext cx="1467000" cy="5540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246600" y="489276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’s f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1677960" y="5322960"/>
            <a:ext cx="4546800" cy="658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1"/>
          <a:stretch/>
        </p:blipFill>
        <p:spPr>
          <a:xfrm>
            <a:off x="1495440" y="6031080"/>
            <a:ext cx="1020600" cy="461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>
            <a:off x="2460600" y="6058080"/>
            <a:ext cx="924120" cy="461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>
            <a:off x="3333600" y="6043680"/>
            <a:ext cx="922320" cy="460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4"/>
          <a:stretch/>
        </p:blipFill>
        <p:spPr>
          <a:xfrm>
            <a:off x="4267080" y="6022800"/>
            <a:ext cx="1184400" cy="4622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2"/>
          <p:cNvSpPr/>
          <p:nvPr/>
        </p:nvSpPr>
        <p:spPr>
          <a:xfrm>
            <a:off x="4508640" y="5986440"/>
            <a:ext cx="993600" cy="55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1157040" y="0"/>
            <a:ext cx="670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Multiplication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87280" y="847800"/>
            <a:ext cx="855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re are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ays that one event can happen and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ays a 2nd event can happen, then there are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ays they can both 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87200" y="2158920"/>
            <a:ext cx="86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When you decide what to wear you can choose from 10 tops (shirts) that you like, 5 pairs of jeans, and 3 pairs of shoes. How many outfits could you put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95560" y="3409920"/>
            <a:ext cx="1512720" cy="46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93960" y="3424320"/>
            <a:ext cx="657360" cy="4618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3621240" y="3363840"/>
            <a:ext cx="873000" cy="55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64960" y="4064040"/>
            <a:ext cx="8618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Baskin Robbins offers 31 flavors of ice cream and 5 syrups. You want 2 scoops and one flavor of syrup. How many combinatio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) if 2 ice cream flavors can b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) if 2 scoops need to b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939960" y="6113520"/>
            <a:ext cx="525240" cy="361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68360" y="6049800"/>
            <a:ext cx="1709640" cy="462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081240" y="6062760"/>
            <a:ext cx="920880" cy="4618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4"/>
          <p:cNvSpPr/>
          <p:nvPr/>
        </p:nvSpPr>
        <p:spPr>
          <a:xfrm>
            <a:off x="3060720" y="5977080"/>
            <a:ext cx="914400" cy="55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4470480" y="6068880"/>
            <a:ext cx="492120" cy="460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4834080" y="6041880"/>
            <a:ext cx="460080" cy="462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6541920" y="6053040"/>
            <a:ext cx="920880" cy="4622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8"/>
          <p:cNvSpPr/>
          <p:nvPr/>
        </p:nvSpPr>
        <p:spPr>
          <a:xfrm>
            <a:off x="6521400" y="5967360"/>
            <a:ext cx="914400" cy="55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5240160" y="6040440"/>
            <a:ext cx="592200" cy="461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5802480" y="6032520"/>
            <a:ext cx="69048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228600" y="173160"/>
            <a:ext cx="859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 6 - How many ways can you arrange 3 letters and 3 digits in a license plate if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) repeats are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) no repeats are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) each successive letter/digit must b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82480" y="2352600"/>
            <a:ext cx="525600" cy="362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930240" y="2276640"/>
            <a:ext cx="525600" cy="461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111560" y="2200320"/>
            <a:ext cx="2235240" cy="528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4397400" y="2189160"/>
            <a:ext cx="2019240" cy="55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368360" y="2274840"/>
            <a:ext cx="592200" cy="461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979640" y="2266920"/>
            <a:ext cx="592200" cy="461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2482920" y="2244600"/>
            <a:ext cx="590400" cy="462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3537000" y="2249640"/>
            <a:ext cx="590400" cy="461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2959200" y="2251080"/>
            <a:ext cx="590400" cy="461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574560" y="3021120"/>
            <a:ext cx="492120" cy="461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906480" y="2994120"/>
            <a:ext cx="525600" cy="461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3902040" y="2957400"/>
            <a:ext cx="2201760" cy="5288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8"/>
          <p:cNvSpPr/>
          <p:nvPr/>
        </p:nvSpPr>
        <p:spPr>
          <a:xfrm>
            <a:off x="4186080" y="2946240"/>
            <a:ext cx="2005200" cy="55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1344600" y="2992320"/>
            <a:ext cx="592200" cy="462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1955880" y="3000240"/>
            <a:ext cx="592200" cy="428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>
            <a:off x="2498760" y="2962440"/>
            <a:ext cx="590400" cy="461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>
            <a:off x="3073320" y="2967120"/>
            <a:ext cx="393840" cy="461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>
            <a:off x="3462480" y="2967120"/>
            <a:ext cx="393480" cy="461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633240" y="3868560"/>
            <a:ext cx="492120" cy="36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965160" y="3792600"/>
            <a:ext cx="525600" cy="461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9"/>
          <a:stretch/>
        </p:blipFill>
        <p:spPr>
          <a:xfrm>
            <a:off x="3976560" y="3755880"/>
            <a:ext cx="2168640" cy="5288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7"/>
          <p:cNvSpPr/>
          <p:nvPr/>
        </p:nvSpPr>
        <p:spPr>
          <a:xfrm>
            <a:off x="4286160" y="3745080"/>
            <a:ext cx="1963800" cy="55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0"/>
          <a:stretch/>
        </p:blipFill>
        <p:spPr>
          <a:xfrm>
            <a:off x="1403280" y="3790800"/>
            <a:ext cx="592200" cy="462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1"/>
          <a:stretch/>
        </p:blipFill>
        <p:spPr>
          <a:xfrm>
            <a:off x="2014560" y="3782880"/>
            <a:ext cx="592200" cy="462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2"/>
          <a:stretch/>
        </p:blipFill>
        <p:spPr>
          <a:xfrm>
            <a:off x="2557440" y="3760920"/>
            <a:ext cx="590400" cy="461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3"/>
          <a:stretch/>
        </p:blipFill>
        <p:spPr>
          <a:xfrm>
            <a:off x="3132000" y="3765600"/>
            <a:ext cx="393840" cy="461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4"/>
          <a:stretch/>
        </p:blipFill>
        <p:spPr>
          <a:xfrm>
            <a:off x="3521160" y="3765600"/>
            <a:ext cx="39348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622"/>
          <p:cNvSpPr/>
          <p:nvPr/>
        </p:nvSpPr>
        <p:spPr>
          <a:xfrm>
            <a:off x="206280" y="198432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Jeez, Loui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52"/>
          <p:cNvSpPr/>
          <p:nvPr/>
        </p:nvSpPr>
        <p:spPr>
          <a:xfrm>
            <a:off x="5883120" y="4192560"/>
            <a:ext cx="326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6" descr="find_x_lol"/>
          <p:cNvPicPr/>
          <p:nvPr/>
        </p:nvPicPr>
        <p:blipFill>
          <a:blip r:embed="rId1"/>
          <a:stretch/>
        </p:blipFill>
        <p:spPr>
          <a:xfrm>
            <a:off x="1263600" y="3035160"/>
            <a:ext cx="445140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5-13T18:20:30Z</dcterms:modified>
  <cp:revision>379</cp:revision>
  <dc:subject/>
  <dc:title>1.6 Solving Absolute Value Equations and  Inequalities</dc:title>
</cp:coreProperties>
</file>