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B1FA-247F-4065-9479-62D22B0A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2636-0248-487D-996A-4F9515F39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A30-7649-4668-89FA-05537156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87C-C0AD-415B-A554-3F1DDEB7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BF5-50A7-430D-9EA4-BA708118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154-7952-4D35-B3D2-F9A90F91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DEC-1E62-4179-A8F9-D9466AE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E85-77BF-4A2A-93BF-55264E8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95F-4516-4432-99D1-4196A61E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0D8-A5BD-49E1-B768-0615D2DF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485-27D2-4A43-BE77-BE1BFD2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E0E-F48A-401E-8580-D47EE6FE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48B-2773-4F75-86DC-54A00A2E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C5C-7F44-4B9A-BF07-CC084ED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023-6D31-4270-B4FD-16937FE1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urve Fi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t data to non-linear functions and make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all the critical point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ve by fac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9"/>
          <p:cNvGraphicFramePr/>
          <p:nvPr/>
        </p:nvGraphicFramePr>
        <p:xfrm>
          <a:off x="6087960" y="2789280"/>
          <a:ext cx="305604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7960" y="2789280"/>
                    <a:ext cx="30560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0"/>
          <p:cNvGraphicFramePr/>
          <p:nvPr/>
        </p:nvGraphicFramePr>
        <p:xfrm>
          <a:off x="4329000" y="4246560"/>
          <a:ext cx="248760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9000" y="4246560"/>
                    <a:ext cx="2487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42"/>
          <p:cNvSpPr/>
          <p:nvPr/>
        </p:nvSpPr>
        <p:spPr>
          <a:xfrm>
            <a:off x="263520" y="768240"/>
            <a:ext cx="888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Brian wanted to determine the relation that might exist between speed and miles per gallon of an automobile. Let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the average speed of a car on the highway measured in miles per hour and let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present the miles per gallon of the automobile. The following data are coll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ble 15" descr=""/>
          <p:cNvPicPr/>
          <p:nvPr/>
        </p:nvPicPr>
        <p:blipFill>
          <a:blip r:embed="rId1"/>
          <a:stretch/>
        </p:blipFill>
        <p:spPr>
          <a:xfrm>
            <a:off x="1371600" y="2809800"/>
            <a:ext cx="596268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42"/>
          <p:cNvSpPr/>
          <p:nvPr/>
        </p:nvSpPr>
        <p:spPr>
          <a:xfrm>
            <a:off x="263520" y="379728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2"/>
          <p:cNvSpPr/>
          <p:nvPr/>
        </p:nvSpPr>
        <p:spPr>
          <a:xfrm>
            <a:off x="295200" y="47293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Explain what the slope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42"/>
          <p:cNvSpPr/>
          <p:nvPr/>
        </p:nvSpPr>
        <p:spPr>
          <a:xfrm>
            <a:off x="334800" y="5535720"/>
            <a:ext cx="83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edict the miles per gallon of a car traveling 61 mile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42"/>
          <p:cNvSpPr/>
          <p:nvPr/>
        </p:nvSpPr>
        <p:spPr>
          <a:xfrm>
            <a:off x="263520" y="217440"/>
            <a:ext cx="88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ata below represents the average fuel consumption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y cars (in billions of gallons) for the years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980-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2"/>
          <p:cNvSpPr/>
          <p:nvPr/>
        </p:nvSpPr>
        <p:spPr>
          <a:xfrm>
            <a:off x="277920" y="255420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2"/>
          <p:cNvSpPr/>
          <p:nvPr/>
        </p:nvSpPr>
        <p:spPr>
          <a:xfrm>
            <a:off x="295200" y="366552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termine the year in which average fuel consumption was 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2"/>
          <p:cNvSpPr/>
          <p:nvPr/>
        </p:nvSpPr>
        <p:spPr>
          <a:xfrm>
            <a:off x="334800" y="4984920"/>
            <a:ext cx="83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edict the average fuel consumption for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6280" y="1495440"/>
          <a:ext cx="8480520" cy="790560"/>
        </p:xfrm>
        <a:graphic>
          <a:graphicData uri="http://schemas.openxmlformats.org/drawingml/2006/table">
            <a:tbl>
              <a:tblPr/>
              <a:tblGrid>
                <a:gridCol w="368280"/>
                <a:gridCol w="579600"/>
                <a:gridCol w="579240"/>
                <a:gridCol w="57960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42"/>
          <p:cNvSpPr/>
          <p:nvPr/>
        </p:nvSpPr>
        <p:spPr>
          <a:xfrm>
            <a:off x="263520" y="217440"/>
            <a:ext cx="88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ata below represents monthly cost of manufacturing bicycles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 the number of bicycles produced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2"/>
          <p:cNvSpPr/>
          <p:nvPr/>
        </p:nvSpPr>
        <p:spPr>
          <a:xfrm>
            <a:off x="277920" y="255420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2"/>
          <p:cNvSpPr/>
          <p:nvPr/>
        </p:nvSpPr>
        <p:spPr>
          <a:xfrm>
            <a:off x="295200" y="36655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termine the cost of manufacturing 230 bi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2"/>
          <p:cNvSpPr/>
          <p:nvPr/>
        </p:nvSpPr>
        <p:spPr>
          <a:xfrm>
            <a:off x="334800" y="4984920"/>
            <a:ext cx="83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How many bicycles can be produced if costs are equal to $55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509840"/>
          <a:ext cx="9183600" cy="790560"/>
        </p:xfrm>
        <a:graphic>
          <a:graphicData uri="http://schemas.openxmlformats.org/drawingml/2006/table">
            <a:tbl>
              <a:tblPr/>
              <a:tblGrid>
                <a:gridCol w="330120"/>
                <a:gridCol w="804960"/>
                <a:gridCol w="804960"/>
                <a:gridCol w="804600"/>
                <a:gridCol w="804960"/>
                <a:gridCol w="804960"/>
                <a:gridCol w="804960"/>
                <a:gridCol w="804600"/>
                <a:gridCol w="804960"/>
                <a:gridCol w="804960"/>
                <a:gridCol w="804960"/>
                <a:gridCol w="80460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22"/>
          <p:cNvSpPr/>
          <p:nvPr/>
        </p:nvSpPr>
        <p:spPr>
          <a:xfrm>
            <a:off x="206280" y="15271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curve fitting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0" y="67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difference between a linear, quadratic and cubic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52"/>
          <p:cNvSpPr/>
          <p:nvPr/>
        </p:nvSpPr>
        <p:spPr>
          <a:xfrm>
            <a:off x="5605560" y="11430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tt980301"/>
          <p:cNvPicPr/>
          <p:nvPr/>
        </p:nvPicPr>
        <p:blipFill>
          <a:blip r:embed="rId1"/>
          <a:stretch/>
        </p:blipFill>
        <p:spPr>
          <a:xfrm>
            <a:off x="1676520" y="2232000"/>
            <a:ext cx="4900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6T19:03:18Z</dcterms:modified>
  <cp:revision>379</cp:revision>
  <dc:subject/>
  <dc:title>1.6 Solving Absolute Value Equations and  Inequalities</dc:title>
</cp:coreProperties>
</file>