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C55D-0515-485A-AFF2-E72F4B6D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EDE8-02E1-4525-8CF7-850407AA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213-CADD-454D-9606-3C0FCEE0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A66-E32C-4576-AB7B-0A4E519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3BE-130E-4EB1-A01B-305D59D7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097-0813-412C-9EB2-5C0C64F9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2E1-F501-4DAD-BC1A-988E39EB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C1E-27C8-4799-BCF7-5DED43E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1C2-4359-42FF-BA77-A04E7DCC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F0C-2A9E-4EE4-8E2E-C2E24794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8C5-A78A-48AC-8019-D45A93CE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D26-2D96-4CDD-B8DE-23024BB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F7F-8F34-4B15-8A4A-53206909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13D-ED80-4578-95EF-4A4B0EF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7343-22A0-46F4-95EB-F67B50E6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urve Fi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t data to non-linear functions and make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all the critical point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lve by fac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9"/>
          <p:cNvGraphicFramePr/>
          <p:nvPr/>
        </p:nvGraphicFramePr>
        <p:xfrm>
          <a:off x="6087960" y="2789280"/>
          <a:ext cx="305604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7960" y="2789280"/>
                    <a:ext cx="30560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0"/>
          <p:cNvGraphicFramePr/>
          <p:nvPr/>
        </p:nvGraphicFramePr>
        <p:xfrm>
          <a:off x="4329000" y="4246560"/>
          <a:ext cx="248760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9000" y="4246560"/>
                    <a:ext cx="2487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42"/>
          <p:cNvSpPr/>
          <p:nvPr/>
        </p:nvSpPr>
        <p:spPr>
          <a:xfrm>
            <a:off x="263520" y="768240"/>
            <a:ext cx="888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Brian wanted to determine the relation that might exist between speed and miles per gallon of an automobile. Let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the average speed of a car on the highway measured in miles per hour and let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present the miles per gallon of the automobile. The following data are coll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able 15" descr=""/>
          <p:cNvPicPr/>
          <p:nvPr/>
        </p:nvPicPr>
        <p:blipFill>
          <a:blip r:embed="rId1"/>
          <a:stretch/>
        </p:blipFill>
        <p:spPr>
          <a:xfrm>
            <a:off x="1371600" y="2809800"/>
            <a:ext cx="5962680" cy="890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42"/>
          <p:cNvSpPr/>
          <p:nvPr/>
        </p:nvSpPr>
        <p:spPr>
          <a:xfrm>
            <a:off x="263520" y="379728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2"/>
          <p:cNvSpPr/>
          <p:nvPr/>
        </p:nvSpPr>
        <p:spPr>
          <a:xfrm>
            <a:off x="295200" y="472932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Explain what the slope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42"/>
          <p:cNvSpPr/>
          <p:nvPr/>
        </p:nvSpPr>
        <p:spPr>
          <a:xfrm>
            <a:off x="334800" y="5535720"/>
            <a:ext cx="83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edict the miles per gallon of a car traveling 61 mile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42"/>
          <p:cNvSpPr/>
          <p:nvPr/>
        </p:nvSpPr>
        <p:spPr>
          <a:xfrm>
            <a:off x="263520" y="217440"/>
            <a:ext cx="88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ata below represents the average fuel consumption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y cars (in billions of gallons) for the years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980-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42"/>
          <p:cNvSpPr/>
          <p:nvPr/>
        </p:nvSpPr>
        <p:spPr>
          <a:xfrm>
            <a:off x="277920" y="255420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42"/>
          <p:cNvSpPr/>
          <p:nvPr/>
        </p:nvSpPr>
        <p:spPr>
          <a:xfrm>
            <a:off x="295200" y="366552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Determine the year in which average fuel consumption was 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2"/>
          <p:cNvSpPr/>
          <p:nvPr/>
        </p:nvSpPr>
        <p:spPr>
          <a:xfrm>
            <a:off x="334800" y="4984920"/>
            <a:ext cx="83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edict the average fuel consumption for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6280" y="1495440"/>
          <a:ext cx="8480520" cy="790560"/>
        </p:xfrm>
        <a:graphic>
          <a:graphicData uri="http://schemas.openxmlformats.org/drawingml/2006/table">
            <a:tbl>
              <a:tblPr/>
              <a:tblGrid>
                <a:gridCol w="368280"/>
                <a:gridCol w="579600"/>
                <a:gridCol w="579240"/>
                <a:gridCol w="57960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42"/>
          <p:cNvSpPr/>
          <p:nvPr/>
        </p:nvSpPr>
        <p:spPr>
          <a:xfrm>
            <a:off x="263520" y="217440"/>
            <a:ext cx="88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ata below represents monthly cost of manufacturing bicycles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 the number of bicycles produced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2"/>
          <p:cNvSpPr/>
          <p:nvPr/>
        </p:nvSpPr>
        <p:spPr>
          <a:xfrm>
            <a:off x="277920" y="255420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2"/>
          <p:cNvSpPr/>
          <p:nvPr/>
        </p:nvSpPr>
        <p:spPr>
          <a:xfrm>
            <a:off x="295200" y="366552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Determine the cost of manufacturing 230 bi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2"/>
          <p:cNvSpPr/>
          <p:nvPr/>
        </p:nvSpPr>
        <p:spPr>
          <a:xfrm>
            <a:off x="334800" y="4984920"/>
            <a:ext cx="83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How many bicycles can be produced if costs are equal to $55,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509840"/>
          <a:ext cx="9183600" cy="790560"/>
        </p:xfrm>
        <a:graphic>
          <a:graphicData uri="http://schemas.openxmlformats.org/drawingml/2006/table">
            <a:tbl>
              <a:tblPr/>
              <a:tblGrid>
                <a:gridCol w="330120"/>
                <a:gridCol w="804960"/>
                <a:gridCol w="804960"/>
                <a:gridCol w="804600"/>
                <a:gridCol w="804960"/>
                <a:gridCol w="804960"/>
                <a:gridCol w="804960"/>
                <a:gridCol w="804600"/>
                <a:gridCol w="804960"/>
                <a:gridCol w="804960"/>
                <a:gridCol w="804960"/>
                <a:gridCol w="80460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6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22"/>
          <p:cNvSpPr/>
          <p:nvPr/>
        </p:nvSpPr>
        <p:spPr>
          <a:xfrm>
            <a:off x="206280" y="15271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curve fitting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3"/>
          <p:cNvSpPr/>
          <p:nvPr/>
        </p:nvSpPr>
        <p:spPr>
          <a:xfrm>
            <a:off x="0" y="67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describe the difference between a linear, quadratic and cubic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52"/>
          <p:cNvSpPr/>
          <p:nvPr/>
        </p:nvSpPr>
        <p:spPr>
          <a:xfrm>
            <a:off x="5605560" y="11430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tt980301"/>
          <p:cNvPicPr/>
          <p:nvPr/>
        </p:nvPicPr>
        <p:blipFill>
          <a:blip r:embed="rId1"/>
          <a:stretch/>
        </p:blipFill>
        <p:spPr>
          <a:xfrm>
            <a:off x="1676520" y="2232000"/>
            <a:ext cx="4900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6T19:03:18Z</dcterms:modified>
  <cp:revision>379</cp:revision>
  <dc:subject/>
  <dc:title>1.6 Solving Absolute Value Equations and  Inequalities</dc:title>
</cp:coreProperties>
</file>