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5F3C-B275-47DE-B9DF-A93266897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AA9B-F0FD-407D-9A4C-717462165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A4F-DCE8-4C74-A44D-5A693D75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5B8-8BAC-4124-B36F-A2E6AB2E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749-FF0F-4A79-8C0D-139B4574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721-36EC-47D8-BFAE-378586E8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D3E-A4D2-4FBD-9A98-6C2E4086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8D3-D04B-4331-90CA-09898B59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0B5-3762-4576-A779-5CF572CB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EAF-8F1B-49AD-8E79-734095DF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06B-C99D-4D68-B96B-FDE0E70F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E61-F5F2-42FB-A01F-DE0BC64B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961-BCA3-45BE-A39C-9BE685F7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1D7-D50D-450A-B238-FB9E7A12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9E25-3E7D-4CA9-938C-F13AE35A5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eview of Infinite Geometric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2430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prepare for quiz tomor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76688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sum, if it exists: 9+6+4+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fraction for 0.151515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first term if S=9 and r=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sigma notation to express the series 5+10+15+20+…+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sum o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693720" y="4363920"/>
            <a:ext cx="773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7099200" y="2273400"/>
            <a:ext cx="5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0"/>
              <p:cNvSpPr txBox="1"/>
              <p:nvPr/>
            </p:nvSpPr>
            <p:spPr>
              <a:xfrm>
                <a:off x="2587680" y="3602160"/>
                <a:ext cx="8985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21"/>
              <p:cNvSpPr txBox="1"/>
              <p:nvPr/>
            </p:nvSpPr>
            <p:spPr>
              <a:xfrm>
                <a:off x="4032360" y="5286240"/>
                <a:ext cx="8985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Rectangle 15"/>
          <p:cNvSpPr/>
          <p:nvPr/>
        </p:nvSpPr>
        <p:spPr>
          <a:xfrm>
            <a:off x="6599160" y="27464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/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7284960" y="3238560"/>
            <a:ext cx="5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3811680" y="3867120"/>
            <a:ext cx="37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+4+8+16+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2"/>
              <p:cNvSpPr txBox="1"/>
              <p:nvPr/>
            </p:nvSpPr>
            <p:spPr>
              <a:xfrm>
                <a:off x="6173640" y="5003640"/>
                <a:ext cx="8985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" name="Rectangle 15"/>
          <p:cNvSpPr/>
          <p:nvPr/>
        </p:nvSpPr>
        <p:spPr>
          <a:xfrm>
            <a:off x="4729320" y="612144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25T22:15:50Z</dcterms:modified>
  <cp:revision>316</cp:revision>
  <dc:subject/>
  <dc:title>1.6 Solving Absolute Value Equations and  Inequalities</dc:title>
</cp:coreProperties>
</file>