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7309-B369-4A1D-8192-E2F285A4D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CD82-2EE4-4C83-84A8-F9AB757CC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485-B82A-42CF-8CD8-1325ED2B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1BC-EC41-4DC8-972D-B4745468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F398-9C29-4DAF-AD81-09184BDF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2CC-E5B4-44E5-AD0A-29C7FC57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B59-FFE2-42CA-A112-110C3E93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501-AE8F-495B-89FF-8F9C377C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F62-6639-4A2B-8CB6-9521AF25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8E72-AA03-45D5-9AE5-FDA30167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CB7-C43A-4B73-B402-B1C5041A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7D5-F816-4C28-866A-C2D542FB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7C2-8E98-4E94-828D-DCA33318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CF5-0308-4EF1-93AC-1A4F9A01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2E5A-334B-4B67-82B8-C19013392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eview of Infinite Geometric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2430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prepare for quiz tomor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76688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sum, if it exists: 9+6+4+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fraction for 0.151515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first term if S=9 and r=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sigma notation to express the series 5+10+15+20+…+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sum o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693720" y="4363920"/>
            <a:ext cx="773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7099200" y="2273400"/>
            <a:ext cx="5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0"/>
              <p:cNvSpPr txBox="1"/>
              <p:nvPr/>
            </p:nvSpPr>
            <p:spPr>
              <a:xfrm>
                <a:off x="2587680" y="3602160"/>
                <a:ext cx="8985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21"/>
              <p:cNvSpPr txBox="1"/>
              <p:nvPr/>
            </p:nvSpPr>
            <p:spPr>
              <a:xfrm>
                <a:off x="4032360" y="5286240"/>
                <a:ext cx="8985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Rectangle 15"/>
          <p:cNvSpPr/>
          <p:nvPr/>
        </p:nvSpPr>
        <p:spPr>
          <a:xfrm>
            <a:off x="6599160" y="27464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/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7284960" y="3238560"/>
            <a:ext cx="5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3811680" y="3867120"/>
            <a:ext cx="37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+4+8+16+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2"/>
              <p:cNvSpPr txBox="1"/>
              <p:nvPr/>
            </p:nvSpPr>
            <p:spPr>
              <a:xfrm>
                <a:off x="6173640" y="5003640"/>
                <a:ext cx="8985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" name="Rectangle 15"/>
          <p:cNvSpPr/>
          <p:nvPr/>
        </p:nvSpPr>
        <p:spPr>
          <a:xfrm>
            <a:off x="4729320" y="612144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25T22:15:50Z</dcterms:modified>
  <cp:revision>316</cp:revision>
  <dc:subject/>
  <dc:title>1.6 Solving Absolute Value Equations and  Inequalities</dc:title>
</cp:coreProperties>
</file>