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660-EE32-46EF-88C6-FC4296B9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B2DF-3206-4A9B-8DFE-AB7F0C43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742-A8B3-4302-ADA7-EB4775BD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F17-8B9F-4B0A-B3CC-6B15A37E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9C5-FA9D-4B58-AC53-003F8C60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B4F-7D08-45B0-B62B-ED6073DF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21E-A017-47B5-BBCF-4B0092A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167-5996-4FDB-8979-2FAAB23D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838-E0BD-486C-80E9-3AFF6B11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77E-4370-4115-A118-8474825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48F-B61B-4284-B467-0E971EC8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BD4-A3EE-49CC-8656-ED522C4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50A-F448-4020-B438-A1D0141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277-A7B5-43EA-8DE3-0DCD958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2A06-F329-4FDB-9541-BF0F2580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2600" y="15876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view of Infinite Geometr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370"/>
          <p:cNvSpPr/>
          <p:nvPr/>
        </p:nvSpPr>
        <p:spPr>
          <a:xfrm>
            <a:off x="270000" y="12430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prepare for quiz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42"/>
          <p:cNvSpPr/>
          <p:nvPr/>
        </p:nvSpPr>
        <p:spPr>
          <a:xfrm>
            <a:off x="490680" y="1766880"/>
            <a:ext cx="83851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, if it exists: 9+6+4+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raction for 0.151515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irst term if S=9 and r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igma notation to express the series 5+10+15+20+…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um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93720" y="4363920"/>
            <a:ext cx="773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7099200" y="2273400"/>
            <a:ext cx="5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0"/>
              <p:cNvSpPr txBox="1"/>
              <p:nvPr/>
            </p:nvSpPr>
            <p:spPr>
              <a:xfrm>
                <a:off x="2587680" y="360216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1"/>
              <p:cNvSpPr txBox="1"/>
              <p:nvPr/>
            </p:nvSpPr>
            <p:spPr>
              <a:xfrm>
                <a:off x="4032360" y="52862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Rectangle 15"/>
          <p:cNvSpPr/>
          <p:nvPr/>
        </p:nvSpPr>
        <p:spPr>
          <a:xfrm>
            <a:off x="6599160" y="2746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/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284960" y="32385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811680" y="386712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+4+8+16+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2"/>
              <p:cNvSpPr txBox="1"/>
              <p:nvPr/>
            </p:nvSpPr>
            <p:spPr>
              <a:xfrm>
                <a:off x="6173640" y="5003640"/>
                <a:ext cx="8985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Rectangle 15"/>
          <p:cNvSpPr/>
          <p:nvPr/>
        </p:nvSpPr>
        <p:spPr>
          <a:xfrm>
            <a:off x="4729320" y="61214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1-25T22:15:50Z</dcterms:modified>
  <cp:revision>316</cp:revision>
  <dc:subject/>
  <dc:title>1.6 Solving Absolute Value Equations and  Inequalities</dc:title>
</cp:coreProperties>
</file>