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E0C2-CAD6-4A5A-A8DF-AA71C222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558A-C202-4051-8409-BB23AE50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1E2-FFD9-445D-B85D-B791AB91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7DD-7D38-4FE3-BCA4-31A62FF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6E2-25E9-4568-A641-51394CB6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756-E541-4C40-8224-BD95A1CB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3EF-6FCB-4ADA-8AAB-A6457ED0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BB8-ECD1-4519-8F06-1715279F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D9D-AA0E-485A-B4C5-2F00AFD5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5B5-F2D3-46D9-B491-3DAD8A7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69C-34D7-4D6D-AE1D-54436AF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D77-CE0A-4FA7-A038-1C7A2C2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5A0-1D44-4B77-9AE5-4620DC75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224-D5A4-443C-920C-63EF5916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039-81A4-4EF4-B55E-DFA85346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view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prepare for quiz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: 9+6+4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raction for 0.151515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irst term if S=9 and r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igma notation to express the series 5+10+15+20+…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099200" y="2273400"/>
            <a:ext cx="5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0"/>
              <p:cNvSpPr txBox="1"/>
              <p:nvPr/>
            </p:nvSpPr>
            <p:spPr>
              <a:xfrm>
                <a:off x="2587680" y="360216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1"/>
              <p:cNvSpPr txBox="1"/>
              <p:nvPr/>
            </p:nvSpPr>
            <p:spPr>
              <a:xfrm>
                <a:off x="4032360" y="52862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Rectangle 15"/>
          <p:cNvSpPr/>
          <p:nvPr/>
        </p:nvSpPr>
        <p:spPr>
          <a:xfrm>
            <a:off x="6599160" y="2746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/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284960" y="32385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811680" y="386712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+4+8+16+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6173640" y="50036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Rectangle 15"/>
          <p:cNvSpPr/>
          <p:nvPr/>
        </p:nvSpPr>
        <p:spPr>
          <a:xfrm>
            <a:off x="4729320" y="61214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5T22:15:50Z</dcterms:modified>
  <cp:revision>316</cp:revision>
  <dc:subject/>
  <dc:title>1.6 Solving Absolute Value Equations and  Inequalities</dc:title>
</cp:coreProperties>
</file>